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917A-4DA3-47EE-8F6D-E0444D7CA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8C9F-C968-4001-9F09-737EB82C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896B-3FE4-4AD5-8854-3A668F674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9C30-7A6D-4482-8F02-370D127C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C2D0-6773-4C9C-A8C4-AD34FF90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E701-EA23-416B-89C3-CD718578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34D3-D817-4397-A9C9-183A295E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CC6F-5155-464E-B09C-ADE3C533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F31A-60FE-4A20-B1E8-06F44312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0639-4388-414D-A3E3-B9144640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491E-0CB9-4CCE-9E79-25E0E2FA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9B32-0DD8-4A97-A396-E9B529F7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EF4B-EBAC-4515-BCB2-A54A7271AA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de Bono’s</a:t>
            </a:r>
            <a:br>
              <a:rPr sz="2400"/>
            </a:br>
            <a:br>
              <a:rPr sz="2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x Thinking H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T – Develop our understanding of six hats and our ability to use i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771640" y="4797360"/>
            <a:ext cx="1738440" cy="1704960"/>
            <a:chOff x="2771640" y="4797360"/>
            <a:chExt cx="1738440" cy="1704960"/>
          </a:xfrm>
        </p:grpSpPr>
        <p:grpSp>
          <p:nvGrpSpPr>
            <p:cNvPr id="44" name=""/>
            <p:cNvGrpSpPr/>
            <p:nvPr/>
          </p:nvGrpSpPr>
          <p:grpSpPr>
            <a:xfrm>
              <a:off x="2771640" y="4797360"/>
              <a:ext cx="1738440" cy="1704960"/>
              <a:chOff x="2771640" y="4797360"/>
              <a:chExt cx="1738440" cy="1704960"/>
            </a:xfrm>
          </p:grpSpPr>
          <p:sp>
            <p:nvSpPr>
              <p:cNvPr id="45" name=""/>
              <p:cNvSpPr/>
              <p:nvPr/>
            </p:nvSpPr>
            <p:spPr>
              <a:xfrm>
                <a:off x="3007080" y="4797360"/>
                <a:ext cx="1144080" cy="132840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771640" y="5630040"/>
                <a:ext cx="1738440" cy="87228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3242520" y="5947200"/>
                <a:ext cx="706680" cy="23760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3040560" y="5034960"/>
              <a:ext cx="1076760" cy="442440"/>
            </a:xfrm>
            <a:custGeom>
              <a:avLst/>
              <a:gdLst/>
              <a:ahLst/>
              <a:rect l="l" t="t" r="r" b="b"/>
              <a:pathLst>
                <a:path w="1536" h="536">
                  <a:moveTo>
                    <a:pt x="0" y="432"/>
                  </a:moveTo>
                  <a:cubicBezTo>
                    <a:pt x="84" y="476"/>
                    <a:pt x="168" y="520"/>
                    <a:pt x="288" y="528"/>
                  </a:cubicBezTo>
                  <a:cubicBezTo>
                    <a:pt x="408" y="536"/>
                    <a:pt x="544" y="536"/>
                    <a:pt x="720" y="480"/>
                  </a:cubicBezTo>
                  <a:cubicBezTo>
                    <a:pt x="896" y="424"/>
                    <a:pt x="1208" y="272"/>
                    <a:pt x="1344" y="192"/>
                  </a:cubicBezTo>
                  <a:cubicBezTo>
                    <a:pt x="1480" y="112"/>
                    <a:pt x="1512" y="32"/>
                    <a:pt x="1536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356000" y="4437000"/>
            <a:ext cx="1693800" cy="2209680"/>
            <a:chOff x="4356000" y="4437000"/>
            <a:chExt cx="1693800" cy="2209680"/>
          </a:xfrm>
        </p:grpSpPr>
        <p:grpSp>
          <p:nvGrpSpPr>
            <p:cNvPr id="50" name=""/>
            <p:cNvGrpSpPr/>
            <p:nvPr/>
          </p:nvGrpSpPr>
          <p:grpSpPr>
            <a:xfrm>
              <a:off x="4356000" y="4437000"/>
              <a:ext cx="1693800" cy="2209680"/>
              <a:chOff x="4356000" y="4437000"/>
              <a:chExt cx="1693800" cy="2209680"/>
            </a:xfrm>
          </p:grpSpPr>
          <p:sp>
            <p:nvSpPr>
              <p:cNvPr id="51" name=""/>
              <p:cNvSpPr/>
              <p:nvPr/>
            </p:nvSpPr>
            <p:spPr>
              <a:xfrm>
                <a:off x="4585320" y="4437000"/>
                <a:ext cx="1114560" cy="172188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356000" y="5516280"/>
                <a:ext cx="1693800" cy="113040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814640" y="5927400"/>
                <a:ext cx="688320" cy="30816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4650840" y="4848120"/>
              <a:ext cx="1016280" cy="539640"/>
            </a:xfrm>
            <a:custGeom>
              <a:avLst/>
              <a:gdLst/>
              <a:ahLst/>
              <a:rect l="l" t="t" r="r" b="b"/>
              <a:pathLst>
                <a:path w="1488" h="504">
                  <a:moveTo>
                    <a:pt x="0" y="336"/>
                  </a:moveTo>
                  <a:cubicBezTo>
                    <a:pt x="40" y="372"/>
                    <a:pt x="80" y="408"/>
                    <a:pt x="192" y="432"/>
                  </a:cubicBezTo>
                  <a:cubicBezTo>
                    <a:pt x="304" y="456"/>
                    <a:pt x="512" y="504"/>
                    <a:pt x="672" y="480"/>
                  </a:cubicBezTo>
                  <a:cubicBezTo>
                    <a:pt x="832" y="456"/>
                    <a:pt x="1016" y="368"/>
                    <a:pt x="1152" y="288"/>
                  </a:cubicBezTo>
                  <a:cubicBezTo>
                    <a:pt x="1288" y="208"/>
                    <a:pt x="1432" y="48"/>
                    <a:pt x="148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0" y="189000"/>
            <a:ext cx="1235160" cy="1841400"/>
            <a:chOff x="0" y="189000"/>
            <a:chExt cx="1235160" cy="1841400"/>
          </a:xfrm>
        </p:grpSpPr>
        <p:grpSp>
          <p:nvGrpSpPr>
            <p:cNvPr id="56" name=""/>
            <p:cNvGrpSpPr/>
            <p:nvPr/>
          </p:nvGrpSpPr>
          <p:grpSpPr>
            <a:xfrm>
              <a:off x="0" y="189000"/>
              <a:ext cx="1235160" cy="1841400"/>
              <a:chOff x="0" y="189000"/>
              <a:chExt cx="1235160" cy="1841400"/>
            </a:xfrm>
          </p:grpSpPr>
          <p:sp>
            <p:nvSpPr>
              <p:cNvPr id="57" name=""/>
              <p:cNvSpPr/>
              <p:nvPr/>
            </p:nvSpPr>
            <p:spPr>
              <a:xfrm>
                <a:off x="167040" y="189000"/>
                <a:ext cx="812880" cy="143460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ffff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088280"/>
                <a:ext cx="1235160" cy="94212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ffff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34440" y="1431000"/>
                <a:ext cx="501840" cy="25668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ffff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39040" y="617040"/>
              <a:ext cx="717120" cy="428040"/>
            </a:xfrm>
            <a:custGeom>
              <a:avLst/>
              <a:gdLst/>
              <a:ahLst/>
              <a:rect l="l" t="t" r="r" b="b"/>
              <a:pathLst>
                <a:path w="1440" h="480">
                  <a:moveTo>
                    <a:pt x="0" y="432"/>
                  </a:moveTo>
                  <a:lnTo>
                    <a:pt x="96" y="480"/>
                  </a:lnTo>
                  <a:lnTo>
                    <a:pt x="288" y="240"/>
                  </a:lnTo>
                  <a:lnTo>
                    <a:pt x="384" y="288"/>
                  </a:lnTo>
                  <a:lnTo>
                    <a:pt x="576" y="96"/>
                  </a:lnTo>
                  <a:lnTo>
                    <a:pt x="816" y="240"/>
                  </a:lnTo>
                  <a:lnTo>
                    <a:pt x="912" y="0"/>
                  </a:lnTo>
                  <a:lnTo>
                    <a:pt x="1248" y="240"/>
                  </a:lnTo>
                  <a:lnTo>
                    <a:pt x="1344" y="0"/>
                  </a:lnTo>
                  <a:lnTo>
                    <a:pt x="1440" y="0"/>
                  </a:lnTo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68360" y="1268280"/>
            <a:ext cx="1262160" cy="2354040"/>
            <a:chOff x="468360" y="1268280"/>
            <a:chExt cx="1262160" cy="2354040"/>
          </a:xfrm>
        </p:grpSpPr>
        <p:grpSp>
          <p:nvGrpSpPr>
            <p:cNvPr id="62" name=""/>
            <p:cNvGrpSpPr/>
            <p:nvPr/>
          </p:nvGrpSpPr>
          <p:grpSpPr>
            <a:xfrm>
              <a:off x="468360" y="1268280"/>
              <a:ext cx="1262160" cy="2354040"/>
              <a:chOff x="468360" y="1268280"/>
              <a:chExt cx="1262160" cy="2354040"/>
            </a:xfrm>
          </p:grpSpPr>
          <p:sp>
            <p:nvSpPr>
              <p:cNvPr id="63" name=""/>
              <p:cNvSpPr/>
              <p:nvPr/>
            </p:nvSpPr>
            <p:spPr>
              <a:xfrm>
                <a:off x="639000" y="1268280"/>
                <a:ext cx="830520" cy="183420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68360" y="2418120"/>
                <a:ext cx="1262160" cy="120420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10360" y="2855880"/>
                <a:ext cx="513000" cy="32832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687960" y="1596600"/>
              <a:ext cx="757440" cy="702360"/>
            </a:xfrm>
            <a:custGeom>
              <a:avLst/>
              <a:gdLst/>
              <a:ahLst/>
              <a:rect l="l" t="t" r="r" b="b"/>
              <a:pathLst>
                <a:path w="1488" h="616">
                  <a:moveTo>
                    <a:pt x="0" y="480"/>
                  </a:moveTo>
                  <a:cubicBezTo>
                    <a:pt x="4" y="520"/>
                    <a:pt x="8" y="560"/>
                    <a:pt x="96" y="576"/>
                  </a:cubicBezTo>
                  <a:cubicBezTo>
                    <a:pt x="184" y="592"/>
                    <a:pt x="336" y="616"/>
                    <a:pt x="528" y="576"/>
                  </a:cubicBezTo>
                  <a:cubicBezTo>
                    <a:pt x="720" y="536"/>
                    <a:pt x="1088" y="432"/>
                    <a:pt x="1248" y="336"/>
                  </a:cubicBezTo>
                  <a:cubicBezTo>
                    <a:pt x="1408" y="240"/>
                    <a:pt x="1448" y="120"/>
                    <a:pt x="1488" y="0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516720" y="189000"/>
            <a:ext cx="1871640" cy="1628280"/>
            <a:chOff x="6516720" y="189000"/>
            <a:chExt cx="1871640" cy="1628280"/>
          </a:xfrm>
        </p:grpSpPr>
        <p:grpSp>
          <p:nvGrpSpPr>
            <p:cNvPr id="68" name=""/>
            <p:cNvGrpSpPr/>
            <p:nvPr/>
          </p:nvGrpSpPr>
          <p:grpSpPr>
            <a:xfrm>
              <a:off x="6516720" y="284760"/>
              <a:ext cx="1871640" cy="1532520"/>
              <a:chOff x="6516720" y="284760"/>
              <a:chExt cx="1871640" cy="153252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6516720" y="284760"/>
                <a:ext cx="1871640" cy="1532520"/>
                <a:chOff x="6516720" y="284760"/>
                <a:chExt cx="1871640" cy="153252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6770160" y="284760"/>
                  <a:ext cx="1231560" cy="1194480"/>
                </a:xfrm>
                <a:custGeom>
                  <a:avLst/>
                  <a:gdLst/>
                  <a:ahLst/>
                  <a:rect l="l" t="t" r="r" b="b"/>
                  <a:pathLst>
                    <a:path w="1632" h="1608">
                      <a:moveTo>
                        <a:pt x="344" y="1368"/>
                      </a:moveTo>
                      <a:cubicBezTo>
                        <a:pt x="172" y="1092"/>
                        <a:pt x="0" y="816"/>
                        <a:pt x="104" y="600"/>
                      </a:cubicBezTo>
                      <a:cubicBezTo>
                        <a:pt x="208" y="384"/>
                        <a:pt x="728" y="144"/>
                        <a:pt x="968" y="72"/>
                      </a:cubicBezTo>
                      <a:cubicBezTo>
                        <a:pt x="1208" y="0"/>
                        <a:pt x="1456" y="8"/>
                        <a:pt x="1544" y="168"/>
                      </a:cubicBezTo>
                      <a:cubicBezTo>
                        <a:pt x="1632" y="328"/>
                        <a:pt x="1528" y="792"/>
                        <a:pt x="1496" y="1032"/>
                      </a:cubicBezTo>
                      <a:cubicBezTo>
                        <a:pt x="1464" y="1272"/>
                        <a:pt x="1376" y="1504"/>
                        <a:pt x="1352" y="1608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6516720" y="1033200"/>
                  <a:ext cx="1871640" cy="784080"/>
                </a:xfrm>
                <a:custGeom>
                  <a:avLst/>
                  <a:gdLst/>
                  <a:ahLst/>
                  <a:rect l="l" t="t" r="r" b="b"/>
                  <a:pathLst>
                    <a:path w="2480" h="1056">
                      <a:moveTo>
                        <a:pt x="512" y="88"/>
                      </a:moveTo>
                      <a:cubicBezTo>
                        <a:pt x="492" y="44"/>
                        <a:pt x="472" y="0"/>
                        <a:pt x="416" y="88"/>
                      </a:cubicBezTo>
                      <a:cubicBezTo>
                        <a:pt x="360" y="176"/>
                        <a:pt x="0" y="456"/>
                        <a:pt x="176" y="616"/>
                      </a:cubicBezTo>
                      <a:cubicBezTo>
                        <a:pt x="352" y="776"/>
                        <a:pt x="1112" y="1040"/>
                        <a:pt x="1472" y="1048"/>
                      </a:cubicBezTo>
                      <a:cubicBezTo>
                        <a:pt x="1832" y="1056"/>
                        <a:pt x="2192" y="744"/>
                        <a:pt x="2336" y="664"/>
                      </a:cubicBezTo>
                      <a:cubicBezTo>
                        <a:pt x="2480" y="584"/>
                        <a:pt x="2392" y="648"/>
                        <a:pt x="2336" y="568"/>
                      </a:cubicBezTo>
                      <a:cubicBezTo>
                        <a:pt x="2280" y="488"/>
                        <a:pt x="2096" y="248"/>
                        <a:pt x="2000" y="184"/>
                      </a:cubicBezTo>
                      <a:cubicBezTo>
                        <a:pt x="1904" y="120"/>
                        <a:pt x="1800" y="184"/>
                        <a:pt x="1760" y="184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023600" y="1318680"/>
                  <a:ext cx="760680" cy="213840"/>
                </a:xfrm>
                <a:custGeom>
                  <a:avLst/>
                  <a:gdLst/>
                  <a:ahLst/>
                  <a:rect l="l" t="t" r="r" b="b"/>
                  <a:pathLst>
                    <a:path w="1008" h="288">
                      <a:moveTo>
                        <a:pt x="0" y="0"/>
                      </a:moveTo>
                      <a:cubicBezTo>
                        <a:pt x="12" y="72"/>
                        <a:pt x="24" y="144"/>
                        <a:pt x="144" y="192"/>
                      </a:cubicBezTo>
                      <a:cubicBezTo>
                        <a:pt x="264" y="240"/>
                        <a:pt x="576" y="288"/>
                        <a:pt x="720" y="288"/>
                      </a:cubicBezTo>
                      <a:cubicBezTo>
                        <a:pt x="864" y="288"/>
                        <a:pt x="936" y="240"/>
                        <a:pt x="1008" y="192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" name=""/>
              <p:cNvSpPr/>
              <p:nvPr/>
            </p:nvSpPr>
            <p:spPr>
              <a:xfrm>
                <a:off x="6830280" y="498600"/>
                <a:ext cx="1146960" cy="498960"/>
              </a:xfrm>
              <a:custGeom>
                <a:avLst/>
                <a:gdLst/>
                <a:ahLst/>
                <a:rect l="l" t="t" r="r" b="b"/>
                <a:pathLst>
                  <a:path w="1520" h="672">
                    <a:moveTo>
                      <a:pt x="0" y="480"/>
                    </a:moveTo>
                    <a:cubicBezTo>
                      <a:pt x="108" y="576"/>
                      <a:pt x="216" y="672"/>
                      <a:pt x="384" y="672"/>
                    </a:cubicBezTo>
                    <a:cubicBezTo>
                      <a:pt x="552" y="672"/>
                      <a:pt x="832" y="568"/>
                      <a:pt x="1008" y="480"/>
                    </a:cubicBezTo>
                    <a:cubicBezTo>
                      <a:pt x="1184" y="392"/>
                      <a:pt x="1360" y="224"/>
                      <a:pt x="1440" y="144"/>
                    </a:cubicBezTo>
                    <a:cubicBezTo>
                      <a:pt x="1520" y="64"/>
                      <a:pt x="1504" y="32"/>
                      <a:pt x="1488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7078680" y="189000"/>
              <a:ext cx="133560" cy="534600"/>
            </a:xfrm>
            <a:custGeom>
              <a:avLst/>
              <a:gdLst/>
              <a:ahLst/>
              <a:rect l="l" t="t" r="r" b="b"/>
              <a:pathLst>
                <a:path w="177" h="720">
                  <a:moveTo>
                    <a:pt x="101" y="720"/>
                  </a:moveTo>
                  <a:cubicBezTo>
                    <a:pt x="95" y="581"/>
                    <a:pt x="130" y="495"/>
                    <a:pt x="0" y="452"/>
                  </a:cubicBezTo>
                  <a:cubicBezTo>
                    <a:pt x="3" y="344"/>
                    <a:pt x="1" y="236"/>
                    <a:pt x="9" y="129"/>
                  </a:cubicBezTo>
                  <a:cubicBezTo>
                    <a:pt x="11" y="103"/>
                    <a:pt x="40" y="95"/>
                    <a:pt x="55" y="83"/>
                  </a:cubicBezTo>
                  <a:cubicBezTo>
                    <a:pt x="92" y="53"/>
                    <a:pt x="110" y="15"/>
                    <a:pt x="157" y="0"/>
                  </a:cubicBezTo>
                  <a:cubicBezTo>
                    <a:pt x="177" y="61"/>
                    <a:pt x="177" y="50"/>
                    <a:pt x="157" y="157"/>
                  </a:cubicBezTo>
                  <a:cubicBezTo>
                    <a:pt x="154" y="174"/>
                    <a:pt x="130" y="179"/>
                    <a:pt x="120" y="194"/>
                  </a:cubicBezTo>
                  <a:cubicBezTo>
                    <a:pt x="103" y="219"/>
                    <a:pt x="101" y="232"/>
                    <a:pt x="92" y="258"/>
                  </a:cubicBezTo>
                  <a:cubicBezTo>
                    <a:pt x="104" y="458"/>
                    <a:pt x="101" y="357"/>
                    <a:pt x="101" y="563"/>
                  </a:cubicBezTo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659640" y="1773360"/>
            <a:ext cx="2130480" cy="1693800"/>
            <a:chOff x="6659640" y="1773360"/>
            <a:chExt cx="2130480" cy="1693800"/>
          </a:xfrm>
        </p:grpSpPr>
        <p:grpSp>
          <p:nvGrpSpPr>
            <p:cNvPr id="76" name=""/>
            <p:cNvGrpSpPr/>
            <p:nvPr/>
          </p:nvGrpSpPr>
          <p:grpSpPr>
            <a:xfrm>
              <a:off x="6659640" y="1773360"/>
              <a:ext cx="2130480" cy="1693800"/>
              <a:chOff x="6659640" y="1773360"/>
              <a:chExt cx="2130480" cy="1693800"/>
            </a:xfrm>
          </p:grpSpPr>
          <p:sp>
            <p:nvSpPr>
              <p:cNvPr id="77" name=""/>
              <p:cNvSpPr/>
              <p:nvPr/>
            </p:nvSpPr>
            <p:spPr>
              <a:xfrm>
                <a:off x="6948000" y="1773360"/>
                <a:ext cx="1401840" cy="131976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659640" y="2600640"/>
                <a:ext cx="2130480" cy="86652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6720" y="2915640"/>
                <a:ext cx="865800" cy="23616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7016760" y="2009520"/>
              <a:ext cx="1305720" cy="551160"/>
            </a:xfrm>
            <a:custGeom>
              <a:avLst/>
              <a:gdLst/>
              <a:ahLst/>
              <a:rect l="l" t="t" r="r" b="b"/>
              <a:pathLst>
                <a:path w="1520" h="672">
                  <a:moveTo>
                    <a:pt x="0" y="480"/>
                  </a:moveTo>
                  <a:cubicBezTo>
                    <a:pt x="108" y="576"/>
                    <a:pt x="216" y="672"/>
                    <a:pt x="384" y="672"/>
                  </a:cubicBezTo>
                  <a:cubicBezTo>
                    <a:pt x="552" y="672"/>
                    <a:pt x="832" y="568"/>
                    <a:pt x="1008" y="480"/>
                  </a:cubicBezTo>
                  <a:cubicBezTo>
                    <a:pt x="1184" y="392"/>
                    <a:pt x="1360" y="224"/>
                    <a:pt x="1440" y="144"/>
                  </a:cubicBezTo>
                  <a:cubicBezTo>
                    <a:pt x="1520" y="64"/>
                    <a:pt x="1504" y="32"/>
                    <a:pt x="1488" y="0"/>
                  </a:cubicBezTo>
                </a:path>
              </a:pathLst>
            </a:custGeom>
            <a:solidFill>
              <a:srgbClr val="3333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x Thinking Ha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066680" y="1905120"/>
            <a:ext cx="1447920" cy="1295280"/>
            <a:chOff x="1066680" y="1905120"/>
            <a:chExt cx="1447920" cy="1295280"/>
          </a:xfrm>
        </p:grpSpPr>
        <p:grpSp>
          <p:nvGrpSpPr>
            <p:cNvPr id="192" name=""/>
            <p:cNvGrpSpPr/>
            <p:nvPr/>
          </p:nvGrpSpPr>
          <p:grpSpPr>
            <a:xfrm>
              <a:off x="1066680" y="1905120"/>
              <a:ext cx="1447920" cy="1295280"/>
              <a:chOff x="1066680" y="1905120"/>
              <a:chExt cx="1447920" cy="1295280"/>
            </a:xfrm>
          </p:grpSpPr>
          <p:sp>
            <p:nvSpPr>
              <p:cNvPr id="193" name=""/>
              <p:cNvSpPr/>
              <p:nvPr/>
            </p:nvSpPr>
            <p:spPr>
              <a:xfrm>
                <a:off x="1262520" y="1905120"/>
                <a:ext cx="952920" cy="100908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066680" y="2537640"/>
                <a:ext cx="1447920" cy="6627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458720" y="2778840"/>
                <a:ext cx="588600" cy="18072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1309320" y="2085840"/>
              <a:ext cx="887400" cy="421560"/>
            </a:xfrm>
            <a:custGeom>
              <a:avLst/>
              <a:gdLst/>
              <a:ahLst/>
              <a:rect l="l" t="t" r="r" b="b"/>
              <a:pathLst>
                <a:path w="1520" h="672">
                  <a:moveTo>
                    <a:pt x="0" y="480"/>
                  </a:moveTo>
                  <a:cubicBezTo>
                    <a:pt x="108" y="576"/>
                    <a:pt x="216" y="672"/>
                    <a:pt x="384" y="672"/>
                  </a:cubicBezTo>
                  <a:cubicBezTo>
                    <a:pt x="552" y="672"/>
                    <a:pt x="832" y="568"/>
                    <a:pt x="1008" y="480"/>
                  </a:cubicBezTo>
                  <a:cubicBezTo>
                    <a:pt x="1184" y="392"/>
                    <a:pt x="1360" y="224"/>
                    <a:pt x="1440" y="144"/>
                  </a:cubicBezTo>
                  <a:cubicBezTo>
                    <a:pt x="1520" y="64"/>
                    <a:pt x="1504" y="32"/>
                    <a:pt x="1488" y="0"/>
                  </a:cubicBezTo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962520" y="1523880"/>
            <a:ext cx="1447560" cy="1295640"/>
            <a:chOff x="3962520" y="1523880"/>
            <a:chExt cx="1447560" cy="1295640"/>
          </a:xfrm>
        </p:grpSpPr>
        <p:grpSp>
          <p:nvGrpSpPr>
            <p:cNvPr id="198" name=""/>
            <p:cNvGrpSpPr/>
            <p:nvPr/>
          </p:nvGrpSpPr>
          <p:grpSpPr>
            <a:xfrm>
              <a:off x="3962520" y="1523880"/>
              <a:ext cx="1447560" cy="1295640"/>
              <a:chOff x="3962520" y="1523880"/>
              <a:chExt cx="1447560" cy="1295640"/>
            </a:xfrm>
          </p:grpSpPr>
          <p:sp>
            <p:nvSpPr>
              <p:cNvPr id="199" name=""/>
              <p:cNvSpPr/>
              <p:nvPr/>
            </p:nvSpPr>
            <p:spPr>
              <a:xfrm>
                <a:off x="4158360" y="1523880"/>
                <a:ext cx="952560" cy="100944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ffff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962520" y="2156760"/>
                <a:ext cx="1447560" cy="6627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ffff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54560" y="2397600"/>
                <a:ext cx="588240" cy="18072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ffff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4205160" y="1704600"/>
              <a:ext cx="887040" cy="421560"/>
            </a:xfrm>
            <a:custGeom>
              <a:avLst/>
              <a:gdLst/>
              <a:ahLst/>
              <a:rect l="l" t="t" r="r" b="b"/>
              <a:pathLst>
                <a:path w="1520" h="672">
                  <a:moveTo>
                    <a:pt x="0" y="480"/>
                  </a:moveTo>
                  <a:cubicBezTo>
                    <a:pt x="108" y="576"/>
                    <a:pt x="216" y="672"/>
                    <a:pt x="384" y="672"/>
                  </a:cubicBezTo>
                  <a:cubicBezTo>
                    <a:pt x="552" y="672"/>
                    <a:pt x="832" y="568"/>
                    <a:pt x="1008" y="480"/>
                  </a:cubicBezTo>
                  <a:cubicBezTo>
                    <a:pt x="1184" y="392"/>
                    <a:pt x="1360" y="224"/>
                    <a:pt x="1440" y="144"/>
                  </a:cubicBezTo>
                  <a:cubicBezTo>
                    <a:pt x="1520" y="64"/>
                    <a:pt x="1504" y="32"/>
                    <a:pt x="1488" y="0"/>
                  </a:cubicBez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762120" y="4572000"/>
            <a:ext cx="1447560" cy="1295280"/>
            <a:chOff x="762120" y="4572000"/>
            <a:chExt cx="1447560" cy="1295280"/>
          </a:xfrm>
        </p:grpSpPr>
        <p:grpSp>
          <p:nvGrpSpPr>
            <p:cNvPr id="204" name=""/>
            <p:cNvGrpSpPr/>
            <p:nvPr/>
          </p:nvGrpSpPr>
          <p:grpSpPr>
            <a:xfrm>
              <a:off x="762120" y="4572000"/>
              <a:ext cx="1447560" cy="1295280"/>
              <a:chOff x="762120" y="4572000"/>
              <a:chExt cx="1447560" cy="1295280"/>
            </a:xfrm>
          </p:grpSpPr>
          <p:sp>
            <p:nvSpPr>
              <p:cNvPr id="205" name=""/>
              <p:cNvSpPr/>
              <p:nvPr/>
            </p:nvSpPr>
            <p:spPr>
              <a:xfrm>
                <a:off x="957960" y="4572000"/>
                <a:ext cx="952560" cy="100908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62120" y="5204520"/>
                <a:ext cx="1447560" cy="6627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154160" y="5445720"/>
                <a:ext cx="588240" cy="18072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1004760" y="4752720"/>
              <a:ext cx="887040" cy="421560"/>
            </a:xfrm>
            <a:custGeom>
              <a:avLst/>
              <a:gdLst/>
              <a:ahLst/>
              <a:rect l="l" t="t" r="r" b="b"/>
              <a:pathLst>
                <a:path w="1520" h="672">
                  <a:moveTo>
                    <a:pt x="0" y="480"/>
                  </a:moveTo>
                  <a:cubicBezTo>
                    <a:pt x="108" y="576"/>
                    <a:pt x="216" y="672"/>
                    <a:pt x="384" y="672"/>
                  </a:cubicBezTo>
                  <a:cubicBezTo>
                    <a:pt x="552" y="672"/>
                    <a:pt x="832" y="568"/>
                    <a:pt x="1008" y="480"/>
                  </a:cubicBezTo>
                  <a:cubicBezTo>
                    <a:pt x="1184" y="392"/>
                    <a:pt x="1360" y="224"/>
                    <a:pt x="1440" y="144"/>
                  </a:cubicBezTo>
                  <a:cubicBezTo>
                    <a:pt x="1520" y="64"/>
                    <a:pt x="1504" y="32"/>
                    <a:pt x="1488" y="0"/>
                  </a:cubicBezTo>
                </a:path>
              </a:pathLst>
            </a:custGeom>
            <a:solidFill>
              <a:srgbClr val="3333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629400" y="4267080"/>
            <a:ext cx="1447920" cy="1295640"/>
            <a:chOff x="6629400" y="4267080"/>
            <a:chExt cx="1447920" cy="1295640"/>
          </a:xfrm>
        </p:grpSpPr>
        <p:grpSp>
          <p:nvGrpSpPr>
            <p:cNvPr id="210" name=""/>
            <p:cNvGrpSpPr/>
            <p:nvPr/>
          </p:nvGrpSpPr>
          <p:grpSpPr>
            <a:xfrm>
              <a:off x="6629400" y="4267080"/>
              <a:ext cx="1447920" cy="1295640"/>
              <a:chOff x="6629400" y="4267080"/>
              <a:chExt cx="1447920" cy="1295640"/>
            </a:xfrm>
          </p:grpSpPr>
          <p:sp>
            <p:nvSpPr>
              <p:cNvPr id="211" name=""/>
              <p:cNvSpPr/>
              <p:nvPr/>
            </p:nvSpPr>
            <p:spPr>
              <a:xfrm>
                <a:off x="6825240" y="4267080"/>
                <a:ext cx="952920" cy="100944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629400" y="4899960"/>
                <a:ext cx="1447920" cy="6627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021440" y="5140800"/>
                <a:ext cx="588600" cy="18072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6872040" y="4447800"/>
              <a:ext cx="887400" cy="421560"/>
            </a:xfrm>
            <a:custGeom>
              <a:avLst/>
              <a:gdLst/>
              <a:ahLst/>
              <a:rect l="l" t="t" r="r" b="b"/>
              <a:pathLst>
                <a:path w="1520" h="672">
                  <a:moveTo>
                    <a:pt x="0" y="480"/>
                  </a:moveTo>
                  <a:cubicBezTo>
                    <a:pt x="108" y="576"/>
                    <a:pt x="216" y="672"/>
                    <a:pt x="384" y="672"/>
                  </a:cubicBezTo>
                  <a:cubicBezTo>
                    <a:pt x="552" y="672"/>
                    <a:pt x="832" y="568"/>
                    <a:pt x="1008" y="480"/>
                  </a:cubicBezTo>
                  <a:cubicBezTo>
                    <a:pt x="1184" y="392"/>
                    <a:pt x="1360" y="224"/>
                    <a:pt x="1440" y="144"/>
                  </a:cubicBezTo>
                  <a:cubicBezTo>
                    <a:pt x="1520" y="64"/>
                    <a:pt x="1504" y="32"/>
                    <a:pt x="1488" y="0"/>
                  </a:cubicBezTo>
                </a:path>
              </a:pathLst>
            </a:custGeom>
            <a:solidFill>
              <a:srgbClr val="000000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1066680" y="32767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 thin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81680" y="3429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7712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38480" y="40384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4191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038480" y="4724280"/>
            <a:ext cx="1447920" cy="1600200"/>
            <a:chOff x="4038480" y="4724280"/>
            <a:chExt cx="1447920" cy="1600200"/>
          </a:xfrm>
        </p:grpSpPr>
        <p:grpSp>
          <p:nvGrpSpPr>
            <p:cNvPr id="222" name=""/>
            <p:cNvGrpSpPr/>
            <p:nvPr/>
          </p:nvGrpSpPr>
          <p:grpSpPr>
            <a:xfrm>
              <a:off x="4038480" y="5029200"/>
              <a:ext cx="1447920" cy="1295280"/>
              <a:chOff x="4038480" y="5029200"/>
              <a:chExt cx="1447920" cy="129528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4038480" y="5029200"/>
                <a:ext cx="1447920" cy="1295280"/>
                <a:chOff x="4038480" y="5029200"/>
                <a:chExt cx="1447920" cy="12952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4234320" y="5029200"/>
                  <a:ext cx="952920" cy="1009080"/>
                </a:xfrm>
                <a:custGeom>
                  <a:avLst/>
                  <a:gdLst/>
                  <a:ahLst/>
                  <a:rect l="l" t="t" r="r" b="b"/>
                  <a:pathLst>
                    <a:path w="1632" h="1608">
                      <a:moveTo>
                        <a:pt x="344" y="1368"/>
                      </a:moveTo>
                      <a:cubicBezTo>
                        <a:pt x="172" y="1092"/>
                        <a:pt x="0" y="816"/>
                        <a:pt x="104" y="600"/>
                      </a:cubicBezTo>
                      <a:cubicBezTo>
                        <a:pt x="208" y="384"/>
                        <a:pt x="728" y="144"/>
                        <a:pt x="968" y="72"/>
                      </a:cubicBezTo>
                      <a:cubicBezTo>
                        <a:pt x="1208" y="0"/>
                        <a:pt x="1456" y="8"/>
                        <a:pt x="1544" y="168"/>
                      </a:cubicBezTo>
                      <a:cubicBezTo>
                        <a:pt x="1632" y="328"/>
                        <a:pt x="1528" y="792"/>
                        <a:pt x="1496" y="1032"/>
                      </a:cubicBezTo>
                      <a:cubicBezTo>
                        <a:pt x="1464" y="1272"/>
                        <a:pt x="1376" y="1504"/>
                        <a:pt x="1352" y="1608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038480" y="5661720"/>
                  <a:ext cx="1447920" cy="662760"/>
                </a:xfrm>
                <a:custGeom>
                  <a:avLst/>
                  <a:gdLst/>
                  <a:ahLst/>
                  <a:rect l="l" t="t" r="r" b="b"/>
                  <a:pathLst>
                    <a:path w="2480" h="1056">
                      <a:moveTo>
                        <a:pt x="512" y="88"/>
                      </a:moveTo>
                      <a:cubicBezTo>
                        <a:pt x="492" y="44"/>
                        <a:pt x="472" y="0"/>
                        <a:pt x="416" y="88"/>
                      </a:cubicBezTo>
                      <a:cubicBezTo>
                        <a:pt x="360" y="176"/>
                        <a:pt x="0" y="456"/>
                        <a:pt x="176" y="616"/>
                      </a:cubicBezTo>
                      <a:cubicBezTo>
                        <a:pt x="352" y="776"/>
                        <a:pt x="1112" y="1040"/>
                        <a:pt x="1472" y="1048"/>
                      </a:cubicBezTo>
                      <a:cubicBezTo>
                        <a:pt x="1832" y="1056"/>
                        <a:pt x="2192" y="744"/>
                        <a:pt x="2336" y="664"/>
                      </a:cubicBezTo>
                      <a:cubicBezTo>
                        <a:pt x="2480" y="584"/>
                        <a:pt x="2392" y="648"/>
                        <a:pt x="2336" y="568"/>
                      </a:cubicBezTo>
                      <a:cubicBezTo>
                        <a:pt x="2280" y="488"/>
                        <a:pt x="2096" y="248"/>
                        <a:pt x="2000" y="184"/>
                      </a:cubicBezTo>
                      <a:cubicBezTo>
                        <a:pt x="1904" y="120"/>
                        <a:pt x="1800" y="184"/>
                        <a:pt x="1760" y="184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430520" y="5902920"/>
                  <a:ext cx="588600" cy="180720"/>
                </a:xfrm>
                <a:custGeom>
                  <a:avLst/>
                  <a:gdLst/>
                  <a:ahLst/>
                  <a:rect l="l" t="t" r="r" b="b"/>
                  <a:pathLst>
                    <a:path w="1008" h="288">
                      <a:moveTo>
                        <a:pt x="0" y="0"/>
                      </a:moveTo>
                      <a:cubicBezTo>
                        <a:pt x="12" y="72"/>
                        <a:pt x="24" y="144"/>
                        <a:pt x="144" y="192"/>
                      </a:cubicBezTo>
                      <a:cubicBezTo>
                        <a:pt x="264" y="240"/>
                        <a:pt x="576" y="288"/>
                        <a:pt x="720" y="288"/>
                      </a:cubicBezTo>
                      <a:cubicBezTo>
                        <a:pt x="864" y="288"/>
                        <a:pt x="936" y="240"/>
                        <a:pt x="1008" y="192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4281120" y="5209920"/>
                <a:ext cx="887400" cy="421560"/>
              </a:xfrm>
              <a:custGeom>
                <a:avLst/>
                <a:gdLst/>
                <a:ahLst/>
                <a:rect l="l" t="t" r="r" b="b"/>
                <a:pathLst>
                  <a:path w="1520" h="672">
                    <a:moveTo>
                      <a:pt x="0" y="480"/>
                    </a:moveTo>
                    <a:cubicBezTo>
                      <a:pt x="108" y="576"/>
                      <a:pt x="216" y="672"/>
                      <a:pt x="384" y="672"/>
                    </a:cubicBezTo>
                    <a:cubicBezTo>
                      <a:pt x="552" y="672"/>
                      <a:pt x="832" y="568"/>
                      <a:pt x="1008" y="480"/>
                    </a:cubicBezTo>
                    <a:cubicBezTo>
                      <a:pt x="1184" y="392"/>
                      <a:pt x="1360" y="224"/>
                      <a:pt x="1440" y="144"/>
                    </a:cubicBezTo>
                    <a:cubicBezTo>
                      <a:pt x="1520" y="64"/>
                      <a:pt x="1504" y="32"/>
                      <a:pt x="1488" y="0"/>
                    </a:cubicBezTo>
                  </a:path>
                </a:pathLst>
              </a:custGeom>
              <a:solidFill>
                <a:srgbClr val="008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 flipV="1">
              <a:off x="4572000" y="5333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2000" y="5079960"/>
              <a:ext cx="244440" cy="357120"/>
            </a:xfrm>
            <a:custGeom>
              <a:avLst/>
              <a:gdLst/>
              <a:ahLst/>
              <a:rect l="l" t="t" r="r" b="b"/>
              <a:pathLst>
                <a:path w="154" h="225">
                  <a:moveTo>
                    <a:pt x="142" y="225"/>
                  </a:moveTo>
                  <a:cubicBezTo>
                    <a:pt x="121" y="75"/>
                    <a:pt x="154" y="219"/>
                    <a:pt x="105" y="132"/>
                  </a:cubicBezTo>
                  <a:cubicBezTo>
                    <a:pt x="99" y="121"/>
                    <a:pt x="104" y="105"/>
                    <a:pt x="96" y="95"/>
                  </a:cubicBezTo>
                  <a:cubicBezTo>
                    <a:pt x="84" y="80"/>
                    <a:pt x="39" y="72"/>
                    <a:pt x="22" y="68"/>
                  </a:cubicBezTo>
                  <a:cubicBezTo>
                    <a:pt x="0" y="0"/>
                    <a:pt x="14" y="11"/>
                    <a:pt x="78" y="22"/>
                  </a:cubicBezTo>
                  <a:cubicBezTo>
                    <a:pt x="81" y="46"/>
                    <a:pt x="87" y="95"/>
                    <a:pt x="87" y="95"/>
                  </a:cubicBezTo>
                  <a:lnTo>
                    <a:pt x="142" y="2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62640" y="4946760"/>
              <a:ext cx="125280" cy="328680"/>
            </a:xfrm>
            <a:custGeom>
              <a:avLst/>
              <a:gdLst/>
              <a:ahLst/>
              <a:rect l="l" t="t" r="r" b="b"/>
              <a:pathLst>
                <a:path w="79" h="207">
                  <a:moveTo>
                    <a:pt x="43" y="207"/>
                  </a:moveTo>
                  <a:cubicBezTo>
                    <a:pt x="40" y="189"/>
                    <a:pt x="43" y="168"/>
                    <a:pt x="34" y="152"/>
                  </a:cubicBezTo>
                  <a:cubicBezTo>
                    <a:pt x="29" y="143"/>
                    <a:pt x="7" y="152"/>
                    <a:pt x="6" y="142"/>
                  </a:cubicBezTo>
                  <a:cubicBezTo>
                    <a:pt x="0" y="96"/>
                    <a:pt x="12" y="50"/>
                    <a:pt x="15" y="4"/>
                  </a:cubicBezTo>
                  <a:cubicBezTo>
                    <a:pt x="34" y="7"/>
                    <a:pt x="58" y="0"/>
                    <a:pt x="71" y="13"/>
                  </a:cubicBezTo>
                  <a:cubicBezTo>
                    <a:pt x="79" y="21"/>
                    <a:pt x="57" y="31"/>
                    <a:pt x="52" y="41"/>
                  </a:cubicBezTo>
                  <a:cubicBezTo>
                    <a:pt x="45" y="56"/>
                    <a:pt x="40" y="72"/>
                    <a:pt x="34" y="87"/>
                  </a:cubicBezTo>
                  <a:cubicBezTo>
                    <a:pt x="46" y="124"/>
                    <a:pt x="47" y="110"/>
                    <a:pt x="34" y="152"/>
                  </a:cubicBezTo>
                  <a:cubicBezTo>
                    <a:pt x="31" y="161"/>
                    <a:pt x="22" y="170"/>
                    <a:pt x="24" y="179"/>
                  </a:cubicBezTo>
                  <a:cubicBezTo>
                    <a:pt x="26" y="190"/>
                    <a:pt x="37" y="198"/>
                    <a:pt x="43" y="207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00600" y="4724280"/>
              <a:ext cx="152280" cy="454320"/>
            </a:xfrm>
            <a:custGeom>
              <a:avLst/>
              <a:gdLst/>
              <a:ahLst/>
              <a:rect l="l" t="t" r="r" b="b"/>
              <a:pathLst>
                <a:path w="96" h="286">
                  <a:moveTo>
                    <a:pt x="71" y="286"/>
                  </a:moveTo>
                  <a:cubicBezTo>
                    <a:pt x="87" y="242"/>
                    <a:pt x="96" y="211"/>
                    <a:pt x="44" y="194"/>
                  </a:cubicBezTo>
                  <a:cubicBezTo>
                    <a:pt x="1" y="151"/>
                    <a:pt x="0" y="42"/>
                    <a:pt x="44" y="0"/>
                  </a:cubicBezTo>
                  <a:cubicBezTo>
                    <a:pt x="57" y="55"/>
                    <a:pt x="63" y="114"/>
                    <a:pt x="34" y="166"/>
                  </a:cubicBezTo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781680" y="1981080"/>
            <a:ext cx="1447920" cy="1295640"/>
            <a:chOff x="6781680" y="1981080"/>
            <a:chExt cx="1447920" cy="1295640"/>
          </a:xfrm>
        </p:grpSpPr>
        <p:grpSp>
          <p:nvGrpSpPr>
            <p:cNvPr id="233" name=""/>
            <p:cNvGrpSpPr/>
            <p:nvPr/>
          </p:nvGrpSpPr>
          <p:grpSpPr>
            <a:xfrm>
              <a:off x="6781680" y="1981080"/>
              <a:ext cx="1447920" cy="1295640"/>
              <a:chOff x="6781680" y="1981080"/>
              <a:chExt cx="1447920" cy="129564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781680" y="1981080"/>
                <a:ext cx="1447920" cy="1295640"/>
                <a:chOff x="6781680" y="1981080"/>
                <a:chExt cx="1447920" cy="12956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6977520" y="1981080"/>
                  <a:ext cx="952920" cy="1009440"/>
                </a:xfrm>
                <a:custGeom>
                  <a:avLst/>
                  <a:gdLst/>
                  <a:ahLst/>
                  <a:rect l="l" t="t" r="r" b="b"/>
                  <a:pathLst>
                    <a:path w="1632" h="1608">
                      <a:moveTo>
                        <a:pt x="344" y="1368"/>
                      </a:moveTo>
                      <a:cubicBezTo>
                        <a:pt x="172" y="1092"/>
                        <a:pt x="0" y="816"/>
                        <a:pt x="104" y="600"/>
                      </a:cubicBezTo>
                      <a:cubicBezTo>
                        <a:pt x="208" y="384"/>
                        <a:pt x="728" y="144"/>
                        <a:pt x="968" y="72"/>
                      </a:cubicBezTo>
                      <a:cubicBezTo>
                        <a:pt x="1208" y="0"/>
                        <a:pt x="1456" y="8"/>
                        <a:pt x="1544" y="168"/>
                      </a:cubicBezTo>
                      <a:cubicBezTo>
                        <a:pt x="1632" y="328"/>
                        <a:pt x="1528" y="792"/>
                        <a:pt x="1496" y="1032"/>
                      </a:cubicBezTo>
                      <a:cubicBezTo>
                        <a:pt x="1464" y="1272"/>
                        <a:pt x="1376" y="1504"/>
                        <a:pt x="1352" y="1608"/>
                      </a:cubicBezTo>
                    </a:path>
                  </a:pathLst>
                </a:custGeom>
                <a:solidFill>
                  <a:srgbClr val="ffff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781680" y="2613960"/>
                  <a:ext cx="1447920" cy="662760"/>
                </a:xfrm>
                <a:custGeom>
                  <a:avLst/>
                  <a:gdLst/>
                  <a:ahLst/>
                  <a:rect l="l" t="t" r="r" b="b"/>
                  <a:pathLst>
                    <a:path w="2480" h="1056">
                      <a:moveTo>
                        <a:pt x="512" y="88"/>
                      </a:moveTo>
                      <a:cubicBezTo>
                        <a:pt x="492" y="44"/>
                        <a:pt x="472" y="0"/>
                        <a:pt x="416" y="88"/>
                      </a:cubicBezTo>
                      <a:cubicBezTo>
                        <a:pt x="360" y="176"/>
                        <a:pt x="0" y="456"/>
                        <a:pt x="176" y="616"/>
                      </a:cubicBezTo>
                      <a:cubicBezTo>
                        <a:pt x="352" y="776"/>
                        <a:pt x="1112" y="1040"/>
                        <a:pt x="1472" y="1048"/>
                      </a:cubicBezTo>
                      <a:cubicBezTo>
                        <a:pt x="1832" y="1056"/>
                        <a:pt x="2192" y="744"/>
                        <a:pt x="2336" y="664"/>
                      </a:cubicBezTo>
                      <a:cubicBezTo>
                        <a:pt x="2480" y="584"/>
                        <a:pt x="2392" y="648"/>
                        <a:pt x="2336" y="568"/>
                      </a:cubicBezTo>
                      <a:cubicBezTo>
                        <a:pt x="2280" y="488"/>
                        <a:pt x="2096" y="248"/>
                        <a:pt x="2000" y="184"/>
                      </a:cubicBezTo>
                      <a:cubicBezTo>
                        <a:pt x="1904" y="120"/>
                        <a:pt x="1800" y="184"/>
                        <a:pt x="1760" y="184"/>
                      </a:cubicBezTo>
                    </a:path>
                  </a:pathLst>
                </a:custGeom>
                <a:solidFill>
                  <a:srgbClr val="ffff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73720" y="2854800"/>
                  <a:ext cx="588600" cy="180720"/>
                </a:xfrm>
                <a:custGeom>
                  <a:avLst/>
                  <a:gdLst/>
                  <a:ahLst/>
                  <a:rect l="l" t="t" r="r" b="b"/>
                  <a:pathLst>
                    <a:path w="1008" h="288">
                      <a:moveTo>
                        <a:pt x="0" y="0"/>
                      </a:moveTo>
                      <a:cubicBezTo>
                        <a:pt x="12" y="72"/>
                        <a:pt x="24" y="144"/>
                        <a:pt x="144" y="192"/>
                      </a:cubicBezTo>
                      <a:cubicBezTo>
                        <a:pt x="264" y="240"/>
                        <a:pt x="576" y="288"/>
                        <a:pt x="720" y="288"/>
                      </a:cubicBezTo>
                      <a:cubicBezTo>
                        <a:pt x="864" y="288"/>
                        <a:pt x="936" y="240"/>
                        <a:pt x="1008" y="192"/>
                      </a:cubicBezTo>
                    </a:path>
                  </a:pathLst>
                </a:custGeom>
                <a:solidFill>
                  <a:srgbClr val="ffff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24320" y="2161800"/>
                <a:ext cx="887400" cy="421560"/>
              </a:xfrm>
              <a:custGeom>
                <a:avLst/>
                <a:gdLst/>
                <a:ahLst/>
                <a:rect l="l" t="t" r="r" b="b"/>
                <a:pathLst>
                  <a:path w="1520" h="672">
                    <a:moveTo>
                      <a:pt x="0" y="480"/>
                    </a:moveTo>
                    <a:cubicBezTo>
                      <a:pt x="108" y="576"/>
                      <a:pt x="216" y="672"/>
                      <a:pt x="384" y="672"/>
                    </a:cubicBezTo>
                    <a:cubicBezTo>
                      <a:pt x="552" y="672"/>
                      <a:pt x="832" y="568"/>
                      <a:pt x="1008" y="480"/>
                    </a:cubicBezTo>
                    <a:cubicBezTo>
                      <a:pt x="1184" y="392"/>
                      <a:pt x="1360" y="224"/>
                      <a:pt x="1440" y="144"/>
                    </a:cubicBezTo>
                    <a:cubicBezTo>
                      <a:pt x="1520" y="64"/>
                      <a:pt x="1504" y="32"/>
                      <a:pt x="1488" y="0"/>
                    </a:cubicBezTo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315200" y="26668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20120" y="266688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Would the six hats theory be good in a busines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WHY??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x Thinking Hats a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066680" y="1905120"/>
            <a:ext cx="1447920" cy="1295280"/>
            <a:chOff x="1066680" y="1905120"/>
            <a:chExt cx="1447920" cy="1295280"/>
          </a:xfrm>
        </p:grpSpPr>
        <p:grpSp>
          <p:nvGrpSpPr>
            <p:cNvPr id="83" name=""/>
            <p:cNvGrpSpPr/>
            <p:nvPr/>
          </p:nvGrpSpPr>
          <p:grpSpPr>
            <a:xfrm>
              <a:off x="1066680" y="1905120"/>
              <a:ext cx="1447920" cy="1295280"/>
              <a:chOff x="1066680" y="1905120"/>
              <a:chExt cx="1447920" cy="1295280"/>
            </a:xfrm>
          </p:grpSpPr>
          <p:sp>
            <p:nvSpPr>
              <p:cNvPr id="84" name=""/>
              <p:cNvSpPr/>
              <p:nvPr/>
            </p:nvSpPr>
            <p:spPr>
              <a:xfrm>
                <a:off x="1262520" y="1905120"/>
                <a:ext cx="952920" cy="100908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066680" y="2537640"/>
                <a:ext cx="1447920" cy="6627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458720" y="2778840"/>
                <a:ext cx="588600" cy="18072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1309320" y="2085840"/>
              <a:ext cx="887400" cy="421560"/>
            </a:xfrm>
            <a:custGeom>
              <a:avLst/>
              <a:gdLst/>
              <a:ahLst/>
              <a:rect l="l" t="t" r="r" b="b"/>
              <a:pathLst>
                <a:path w="1520" h="672">
                  <a:moveTo>
                    <a:pt x="0" y="480"/>
                  </a:moveTo>
                  <a:cubicBezTo>
                    <a:pt x="108" y="576"/>
                    <a:pt x="216" y="672"/>
                    <a:pt x="384" y="672"/>
                  </a:cubicBezTo>
                  <a:cubicBezTo>
                    <a:pt x="552" y="672"/>
                    <a:pt x="832" y="568"/>
                    <a:pt x="1008" y="480"/>
                  </a:cubicBezTo>
                  <a:cubicBezTo>
                    <a:pt x="1184" y="392"/>
                    <a:pt x="1360" y="224"/>
                    <a:pt x="1440" y="144"/>
                  </a:cubicBezTo>
                  <a:cubicBezTo>
                    <a:pt x="1520" y="64"/>
                    <a:pt x="1504" y="32"/>
                    <a:pt x="1488" y="0"/>
                  </a:cubicBezTo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962520" y="1523880"/>
            <a:ext cx="1447560" cy="1295640"/>
            <a:chOff x="3962520" y="1523880"/>
            <a:chExt cx="1447560" cy="1295640"/>
          </a:xfrm>
        </p:grpSpPr>
        <p:grpSp>
          <p:nvGrpSpPr>
            <p:cNvPr id="89" name=""/>
            <p:cNvGrpSpPr/>
            <p:nvPr/>
          </p:nvGrpSpPr>
          <p:grpSpPr>
            <a:xfrm>
              <a:off x="3962520" y="1523880"/>
              <a:ext cx="1447560" cy="1295640"/>
              <a:chOff x="3962520" y="1523880"/>
              <a:chExt cx="1447560" cy="1295640"/>
            </a:xfrm>
          </p:grpSpPr>
          <p:sp>
            <p:nvSpPr>
              <p:cNvPr id="90" name=""/>
              <p:cNvSpPr/>
              <p:nvPr/>
            </p:nvSpPr>
            <p:spPr>
              <a:xfrm>
                <a:off x="4158360" y="1523880"/>
                <a:ext cx="952560" cy="100944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ffff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962520" y="2156760"/>
                <a:ext cx="1447560" cy="6627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ffff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354560" y="2397600"/>
                <a:ext cx="588240" cy="18072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ffff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4205160" y="1704600"/>
              <a:ext cx="887040" cy="421560"/>
            </a:xfrm>
            <a:custGeom>
              <a:avLst/>
              <a:gdLst/>
              <a:ahLst/>
              <a:rect l="l" t="t" r="r" b="b"/>
              <a:pathLst>
                <a:path w="1520" h="672">
                  <a:moveTo>
                    <a:pt x="0" y="480"/>
                  </a:moveTo>
                  <a:cubicBezTo>
                    <a:pt x="108" y="576"/>
                    <a:pt x="216" y="672"/>
                    <a:pt x="384" y="672"/>
                  </a:cubicBezTo>
                  <a:cubicBezTo>
                    <a:pt x="552" y="672"/>
                    <a:pt x="832" y="568"/>
                    <a:pt x="1008" y="480"/>
                  </a:cubicBezTo>
                  <a:cubicBezTo>
                    <a:pt x="1184" y="392"/>
                    <a:pt x="1360" y="224"/>
                    <a:pt x="1440" y="144"/>
                  </a:cubicBezTo>
                  <a:cubicBezTo>
                    <a:pt x="1520" y="64"/>
                    <a:pt x="1504" y="32"/>
                    <a:pt x="1488" y="0"/>
                  </a:cubicBez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762120" y="4572000"/>
            <a:ext cx="1447560" cy="1295280"/>
            <a:chOff x="762120" y="4572000"/>
            <a:chExt cx="1447560" cy="1295280"/>
          </a:xfrm>
        </p:grpSpPr>
        <p:grpSp>
          <p:nvGrpSpPr>
            <p:cNvPr id="95" name=""/>
            <p:cNvGrpSpPr/>
            <p:nvPr/>
          </p:nvGrpSpPr>
          <p:grpSpPr>
            <a:xfrm>
              <a:off x="762120" y="4572000"/>
              <a:ext cx="1447560" cy="1295280"/>
              <a:chOff x="762120" y="4572000"/>
              <a:chExt cx="1447560" cy="1295280"/>
            </a:xfrm>
          </p:grpSpPr>
          <p:sp>
            <p:nvSpPr>
              <p:cNvPr id="96" name=""/>
              <p:cNvSpPr/>
              <p:nvPr/>
            </p:nvSpPr>
            <p:spPr>
              <a:xfrm>
                <a:off x="957960" y="4572000"/>
                <a:ext cx="952560" cy="100908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2120" y="5204520"/>
                <a:ext cx="1447560" cy="6627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154160" y="5445720"/>
                <a:ext cx="588240" cy="18072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1004760" y="4752720"/>
              <a:ext cx="887040" cy="421560"/>
            </a:xfrm>
            <a:custGeom>
              <a:avLst/>
              <a:gdLst/>
              <a:ahLst/>
              <a:rect l="l" t="t" r="r" b="b"/>
              <a:pathLst>
                <a:path w="1520" h="672">
                  <a:moveTo>
                    <a:pt x="0" y="480"/>
                  </a:moveTo>
                  <a:cubicBezTo>
                    <a:pt x="108" y="576"/>
                    <a:pt x="216" y="672"/>
                    <a:pt x="384" y="672"/>
                  </a:cubicBezTo>
                  <a:cubicBezTo>
                    <a:pt x="552" y="672"/>
                    <a:pt x="832" y="568"/>
                    <a:pt x="1008" y="480"/>
                  </a:cubicBezTo>
                  <a:cubicBezTo>
                    <a:pt x="1184" y="392"/>
                    <a:pt x="1360" y="224"/>
                    <a:pt x="1440" y="144"/>
                  </a:cubicBezTo>
                  <a:cubicBezTo>
                    <a:pt x="1520" y="64"/>
                    <a:pt x="1504" y="32"/>
                    <a:pt x="1488" y="0"/>
                  </a:cubicBezTo>
                </a:path>
              </a:pathLst>
            </a:custGeom>
            <a:solidFill>
              <a:srgbClr val="3333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629400" y="4267080"/>
            <a:ext cx="1447920" cy="1295640"/>
            <a:chOff x="6629400" y="4267080"/>
            <a:chExt cx="1447920" cy="1295640"/>
          </a:xfrm>
        </p:grpSpPr>
        <p:grpSp>
          <p:nvGrpSpPr>
            <p:cNvPr id="101" name=""/>
            <p:cNvGrpSpPr/>
            <p:nvPr/>
          </p:nvGrpSpPr>
          <p:grpSpPr>
            <a:xfrm>
              <a:off x="6629400" y="4267080"/>
              <a:ext cx="1447920" cy="1295640"/>
              <a:chOff x="6629400" y="4267080"/>
              <a:chExt cx="1447920" cy="1295640"/>
            </a:xfrm>
          </p:grpSpPr>
          <p:sp>
            <p:nvSpPr>
              <p:cNvPr id="102" name=""/>
              <p:cNvSpPr/>
              <p:nvPr/>
            </p:nvSpPr>
            <p:spPr>
              <a:xfrm>
                <a:off x="6825240" y="4267080"/>
                <a:ext cx="952920" cy="100944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629400" y="4899960"/>
                <a:ext cx="1447920" cy="6627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021440" y="5140800"/>
                <a:ext cx="588600" cy="18072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6872040" y="4447800"/>
              <a:ext cx="887400" cy="421560"/>
            </a:xfrm>
            <a:custGeom>
              <a:avLst/>
              <a:gdLst/>
              <a:ahLst/>
              <a:rect l="l" t="t" r="r" b="b"/>
              <a:pathLst>
                <a:path w="1520" h="672">
                  <a:moveTo>
                    <a:pt x="0" y="480"/>
                  </a:moveTo>
                  <a:cubicBezTo>
                    <a:pt x="108" y="576"/>
                    <a:pt x="216" y="672"/>
                    <a:pt x="384" y="672"/>
                  </a:cubicBezTo>
                  <a:cubicBezTo>
                    <a:pt x="552" y="672"/>
                    <a:pt x="832" y="568"/>
                    <a:pt x="1008" y="480"/>
                  </a:cubicBezTo>
                  <a:cubicBezTo>
                    <a:pt x="1184" y="392"/>
                    <a:pt x="1360" y="224"/>
                    <a:pt x="1440" y="144"/>
                  </a:cubicBezTo>
                  <a:cubicBezTo>
                    <a:pt x="1520" y="64"/>
                    <a:pt x="1504" y="32"/>
                    <a:pt x="1488" y="0"/>
                  </a:cubicBezTo>
                </a:path>
              </a:pathLst>
            </a:custGeom>
            <a:solidFill>
              <a:srgbClr val="000000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066680" y="32767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 thin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81680" y="3429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38480" y="40384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4191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038480" y="4724280"/>
            <a:ext cx="1447920" cy="1600200"/>
            <a:chOff x="4038480" y="4724280"/>
            <a:chExt cx="1447920" cy="1600200"/>
          </a:xfrm>
        </p:grpSpPr>
        <p:grpSp>
          <p:nvGrpSpPr>
            <p:cNvPr id="113" name=""/>
            <p:cNvGrpSpPr/>
            <p:nvPr/>
          </p:nvGrpSpPr>
          <p:grpSpPr>
            <a:xfrm>
              <a:off x="4038480" y="5029200"/>
              <a:ext cx="1447920" cy="1295280"/>
              <a:chOff x="4038480" y="5029200"/>
              <a:chExt cx="1447920" cy="129528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4038480" y="5029200"/>
                <a:ext cx="1447920" cy="1295280"/>
                <a:chOff x="4038480" y="5029200"/>
                <a:chExt cx="1447920" cy="12952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234320" y="5029200"/>
                  <a:ext cx="952920" cy="1009080"/>
                </a:xfrm>
                <a:custGeom>
                  <a:avLst/>
                  <a:gdLst/>
                  <a:ahLst/>
                  <a:rect l="l" t="t" r="r" b="b"/>
                  <a:pathLst>
                    <a:path w="1632" h="1608">
                      <a:moveTo>
                        <a:pt x="344" y="1368"/>
                      </a:moveTo>
                      <a:cubicBezTo>
                        <a:pt x="172" y="1092"/>
                        <a:pt x="0" y="816"/>
                        <a:pt x="104" y="600"/>
                      </a:cubicBezTo>
                      <a:cubicBezTo>
                        <a:pt x="208" y="384"/>
                        <a:pt x="728" y="144"/>
                        <a:pt x="968" y="72"/>
                      </a:cubicBezTo>
                      <a:cubicBezTo>
                        <a:pt x="1208" y="0"/>
                        <a:pt x="1456" y="8"/>
                        <a:pt x="1544" y="168"/>
                      </a:cubicBezTo>
                      <a:cubicBezTo>
                        <a:pt x="1632" y="328"/>
                        <a:pt x="1528" y="792"/>
                        <a:pt x="1496" y="1032"/>
                      </a:cubicBezTo>
                      <a:cubicBezTo>
                        <a:pt x="1464" y="1272"/>
                        <a:pt x="1376" y="1504"/>
                        <a:pt x="1352" y="1608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038480" y="5661720"/>
                  <a:ext cx="1447920" cy="662760"/>
                </a:xfrm>
                <a:custGeom>
                  <a:avLst/>
                  <a:gdLst/>
                  <a:ahLst/>
                  <a:rect l="l" t="t" r="r" b="b"/>
                  <a:pathLst>
                    <a:path w="2480" h="1056">
                      <a:moveTo>
                        <a:pt x="512" y="88"/>
                      </a:moveTo>
                      <a:cubicBezTo>
                        <a:pt x="492" y="44"/>
                        <a:pt x="472" y="0"/>
                        <a:pt x="416" y="88"/>
                      </a:cubicBezTo>
                      <a:cubicBezTo>
                        <a:pt x="360" y="176"/>
                        <a:pt x="0" y="456"/>
                        <a:pt x="176" y="616"/>
                      </a:cubicBezTo>
                      <a:cubicBezTo>
                        <a:pt x="352" y="776"/>
                        <a:pt x="1112" y="1040"/>
                        <a:pt x="1472" y="1048"/>
                      </a:cubicBezTo>
                      <a:cubicBezTo>
                        <a:pt x="1832" y="1056"/>
                        <a:pt x="2192" y="744"/>
                        <a:pt x="2336" y="664"/>
                      </a:cubicBezTo>
                      <a:cubicBezTo>
                        <a:pt x="2480" y="584"/>
                        <a:pt x="2392" y="648"/>
                        <a:pt x="2336" y="568"/>
                      </a:cubicBezTo>
                      <a:cubicBezTo>
                        <a:pt x="2280" y="488"/>
                        <a:pt x="2096" y="248"/>
                        <a:pt x="2000" y="184"/>
                      </a:cubicBezTo>
                      <a:cubicBezTo>
                        <a:pt x="1904" y="120"/>
                        <a:pt x="1800" y="184"/>
                        <a:pt x="1760" y="184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430520" y="5902920"/>
                  <a:ext cx="588600" cy="180720"/>
                </a:xfrm>
                <a:custGeom>
                  <a:avLst/>
                  <a:gdLst/>
                  <a:ahLst/>
                  <a:rect l="l" t="t" r="r" b="b"/>
                  <a:pathLst>
                    <a:path w="1008" h="288">
                      <a:moveTo>
                        <a:pt x="0" y="0"/>
                      </a:moveTo>
                      <a:cubicBezTo>
                        <a:pt x="12" y="72"/>
                        <a:pt x="24" y="144"/>
                        <a:pt x="144" y="192"/>
                      </a:cubicBezTo>
                      <a:cubicBezTo>
                        <a:pt x="264" y="240"/>
                        <a:pt x="576" y="288"/>
                        <a:pt x="720" y="288"/>
                      </a:cubicBezTo>
                      <a:cubicBezTo>
                        <a:pt x="864" y="288"/>
                        <a:pt x="936" y="240"/>
                        <a:pt x="1008" y="192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" name=""/>
              <p:cNvSpPr/>
              <p:nvPr/>
            </p:nvSpPr>
            <p:spPr>
              <a:xfrm>
                <a:off x="4281120" y="5209920"/>
                <a:ext cx="887400" cy="421560"/>
              </a:xfrm>
              <a:custGeom>
                <a:avLst/>
                <a:gdLst/>
                <a:ahLst/>
                <a:rect l="l" t="t" r="r" b="b"/>
                <a:pathLst>
                  <a:path w="1520" h="672">
                    <a:moveTo>
                      <a:pt x="0" y="480"/>
                    </a:moveTo>
                    <a:cubicBezTo>
                      <a:pt x="108" y="576"/>
                      <a:pt x="216" y="672"/>
                      <a:pt x="384" y="672"/>
                    </a:cubicBezTo>
                    <a:cubicBezTo>
                      <a:pt x="552" y="672"/>
                      <a:pt x="832" y="568"/>
                      <a:pt x="1008" y="480"/>
                    </a:cubicBezTo>
                    <a:cubicBezTo>
                      <a:pt x="1184" y="392"/>
                      <a:pt x="1360" y="224"/>
                      <a:pt x="1440" y="144"/>
                    </a:cubicBezTo>
                    <a:cubicBezTo>
                      <a:pt x="1520" y="64"/>
                      <a:pt x="1504" y="32"/>
                      <a:pt x="1488" y="0"/>
                    </a:cubicBezTo>
                  </a:path>
                </a:pathLst>
              </a:custGeom>
              <a:solidFill>
                <a:srgbClr val="008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 flipV="1">
              <a:off x="4572000" y="5333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02000" y="5079960"/>
              <a:ext cx="244440" cy="357120"/>
            </a:xfrm>
            <a:custGeom>
              <a:avLst/>
              <a:gdLst/>
              <a:ahLst/>
              <a:rect l="l" t="t" r="r" b="b"/>
              <a:pathLst>
                <a:path w="154" h="225">
                  <a:moveTo>
                    <a:pt x="142" y="225"/>
                  </a:moveTo>
                  <a:cubicBezTo>
                    <a:pt x="121" y="75"/>
                    <a:pt x="154" y="219"/>
                    <a:pt x="105" y="132"/>
                  </a:cubicBezTo>
                  <a:cubicBezTo>
                    <a:pt x="99" y="121"/>
                    <a:pt x="104" y="105"/>
                    <a:pt x="96" y="95"/>
                  </a:cubicBezTo>
                  <a:cubicBezTo>
                    <a:pt x="84" y="80"/>
                    <a:pt x="39" y="72"/>
                    <a:pt x="22" y="68"/>
                  </a:cubicBezTo>
                  <a:cubicBezTo>
                    <a:pt x="0" y="0"/>
                    <a:pt x="14" y="11"/>
                    <a:pt x="78" y="22"/>
                  </a:cubicBezTo>
                  <a:cubicBezTo>
                    <a:pt x="81" y="46"/>
                    <a:pt x="87" y="95"/>
                    <a:pt x="87" y="95"/>
                  </a:cubicBezTo>
                  <a:lnTo>
                    <a:pt x="142" y="2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62640" y="4946760"/>
              <a:ext cx="125280" cy="328680"/>
            </a:xfrm>
            <a:custGeom>
              <a:avLst/>
              <a:gdLst/>
              <a:ahLst/>
              <a:rect l="l" t="t" r="r" b="b"/>
              <a:pathLst>
                <a:path w="79" h="207">
                  <a:moveTo>
                    <a:pt x="43" y="207"/>
                  </a:moveTo>
                  <a:cubicBezTo>
                    <a:pt x="40" y="189"/>
                    <a:pt x="43" y="168"/>
                    <a:pt x="34" y="152"/>
                  </a:cubicBezTo>
                  <a:cubicBezTo>
                    <a:pt x="29" y="143"/>
                    <a:pt x="7" y="152"/>
                    <a:pt x="6" y="142"/>
                  </a:cubicBezTo>
                  <a:cubicBezTo>
                    <a:pt x="0" y="96"/>
                    <a:pt x="12" y="50"/>
                    <a:pt x="15" y="4"/>
                  </a:cubicBezTo>
                  <a:cubicBezTo>
                    <a:pt x="34" y="7"/>
                    <a:pt x="58" y="0"/>
                    <a:pt x="71" y="13"/>
                  </a:cubicBezTo>
                  <a:cubicBezTo>
                    <a:pt x="79" y="21"/>
                    <a:pt x="57" y="31"/>
                    <a:pt x="52" y="41"/>
                  </a:cubicBezTo>
                  <a:cubicBezTo>
                    <a:pt x="45" y="56"/>
                    <a:pt x="40" y="72"/>
                    <a:pt x="34" y="87"/>
                  </a:cubicBezTo>
                  <a:cubicBezTo>
                    <a:pt x="46" y="124"/>
                    <a:pt x="47" y="110"/>
                    <a:pt x="34" y="152"/>
                  </a:cubicBezTo>
                  <a:cubicBezTo>
                    <a:pt x="31" y="161"/>
                    <a:pt x="22" y="170"/>
                    <a:pt x="24" y="179"/>
                  </a:cubicBezTo>
                  <a:cubicBezTo>
                    <a:pt x="26" y="190"/>
                    <a:pt x="37" y="198"/>
                    <a:pt x="43" y="207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00600" y="4724280"/>
              <a:ext cx="152280" cy="454320"/>
            </a:xfrm>
            <a:custGeom>
              <a:avLst/>
              <a:gdLst/>
              <a:ahLst/>
              <a:rect l="l" t="t" r="r" b="b"/>
              <a:pathLst>
                <a:path w="96" h="286">
                  <a:moveTo>
                    <a:pt x="71" y="286"/>
                  </a:moveTo>
                  <a:cubicBezTo>
                    <a:pt x="87" y="242"/>
                    <a:pt x="96" y="211"/>
                    <a:pt x="44" y="194"/>
                  </a:cubicBezTo>
                  <a:cubicBezTo>
                    <a:pt x="1" y="151"/>
                    <a:pt x="0" y="42"/>
                    <a:pt x="44" y="0"/>
                  </a:cubicBezTo>
                  <a:cubicBezTo>
                    <a:pt x="57" y="55"/>
                    <a:pt x="63" y="114"/>
                    <a:pt x="34" y="166"/>
                  </a:cubicBezTo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781680" y="1981080"/>
            <a:ext cx="1447920" cy="1295640"/>
            <a:chOff x="6781680" y="1981080"/>
            <a:chExt cx="1447920" cy="1295640"/>
          </a:xfrm>
        </p:grpSpPr>
        <p:grpSp>
          <p:nvGrpSpPr>
            <p:cNvPr id="124" name=""/>
            <p:cNvGrpSpPr/>
            <p:nvPr/>
          </p:nvGrpSpPr>
          <p:grpSpPr>
            <a:xfrm>
              <a:off x="6781680" y="1981080"/>
              <a:ext cx="1447920" cy="1295640"/>
              <a:chOff x="6781680" y="1981080"/>
              <a:chExt cx="1447920" cy="129564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6781680" y="1981080"/>
                <a:ext cx="1447920" cy="1295640"/>
                <a:chOff x="6781680" y="1981080"/>
                <a:chExt cx="1447920" cy="12956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6977520" y="1981080"/>
                  <a:ext cx="952920" cy="1009440"/>
                </a:xfrm>
                <a:custGeom>
                  <a:avLst/>
                  <a:gdLst/>
                  <a:ahLst/>
                  <a:rect l="l" t="t" r="r" b="b"/>
                  <a:pathLst>
                    <a:path w="1632" h="1608">
                      <a:moveTo>
                        <a:pt x="344" y="1368"/>
                      </a:moveTo>
                      <a:cubicBezTo>
                        <a:pt x="172" y="1092"/>
                        <a:pt x="0" y="816"/>
                        <a:pt x="104" y="600"/>
                      </a:cubicBezTo>
                      <a:cubicBezTo>
                        <a:pt x="208" y="384"/>
                        <a:pt x="728" y="144"/>
                        <a:pt x="968" y="72"/>
                      </a:cubicBezTo>
                      <a:cubicBezTo>
                        <a:pt x="1208" y="0"/>
                        <a:pt x="1456" y="8"/>
                        <a:pt x="1544" y="168"/>
                      </a:cubicBezTo>
                      <a:cubicBezTo>
                        <a:pt x="1632" y="328"/>
                        <a:pt x="1528" y="792"/>
                        <a:pt x="1496" y="1032"/>
                      </a:cubicBezTo>
                      <a:cubicBezTo>
                        <a:pt x="1464" y="1272"/>
                        <a:pt x="1376" y="1504"/>
                        <a:pt x="1352" y="1608"/>
                      </a:cubicBezTo>
                    </a:path>
                  </a:pathLst>
                </a:custGeom>
                <a:solidFill>
                  <a:srgbClr val="ffff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781680" y="2613960"/>
                  <a:ext cx="1447920" cy="662760"/>
                </a:xfrm>
                <a:custGeom>
                  <a:avLst/>
                  <a:gdLst/>
                  <a:ahLst/>
                  <a:rect l="l" t="t" r="r" b="b"/>
                  <a:pathLst>
                    <a:path w="2480" h="1056">
                      <a:moveTo>
                        <a:pt x="512" y="88"/>
                      </a:moveTo>
                      <a:cubicBezTo>
                        <a:pt x="492" y="44"/>
                        <a:pt x="472" y="0"/>
                        <a:pt x="416" y="88"/>
                      </a:cubicBezTo>
                      <a:cubicBezTo>
                        <a:pt x="360" y="176"/>
                        <a:pt x="0" y="456"/>
                        <a:pt x="176" y="616"/>
                      </a:cubicBezTo>
                      <a:cubicBezTo>
                        <a:pt x="352" y="776"/>
                        <a:pt x="1112" y="1040"/>
                        <a:pt x="1472" y="1048"/>
                      </a:cubicBezTo>
                      <a:cubicBezTo>
                        <a:pt x="1832" y="1056"/>
                        <a:pt x="2192" y="744"/>
                        <a:pt x="2336" y="664"/>
                      </a:cubicBezTo>
                      <a:cubicBezTo>
                        <a:pt x="2480" y="584"/>
                        <a:pt x="2392" y="648"/>
                        <a:pt x="2336" y="568"/>
                      </a:cubicBezTo>
                      <a:cubicBezTo>
                        <a:pt x="2280" y="488"/>
                        <a:pt x="2096" y="248"/>
                        <a:pt x="2000" y="184"/>
                      </a:cubicBezTo>
                      <a:cubicBezTo>
                        <a:pt x="1904" y="120"/>
                        <a:pt x="1800" y="184"/>
                        <a:pt x="1760" y="184"/>
                      </a:cubicBezTo>
                    </a:path>
                  </a:pathLst>
                </a:custGeom>
                <a:solidFill>
                  <a:srgbClr val="ffff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173720" y="2854800"/>
                  <a:ext cx="588600" cy="180720"/>
                </a:xfrm>
                <a:custGeom>
                  <a:avLst/>
                  <a:gdLst/>
                  <a:ahLst/>
                  <a:rect l="l" t="t" r="r" b="b"/>
                  <a:pathLst>
                    <a:path w="1008" h="288">
                      <a:moveTo>
                        <a:pt x="0" y="0"/>
                      </a:moveTo>
                      <a:cubicBezTo>
                        <a:pt x="12" y="72"/>
                        <a:pt x="24" y="144"/>
                        <a:pt x="144" y="192"/>
                      </a:cubicBezTo>
                      <a:cubicBezTo>
                        <a:pt x="264" y="240"/>
                        <a:pt x="576" y="288"/>
                        <a:pt x="720" y="288"/>
                      </a:cubicBezTo>
                      <a:cubicBezTo>
                        <a:pt x="864" y="288"/>
                        <a:pt x="936" y="240"/>
                        <a:pt x="1008" y="192"/>
                      </a:cubicBezTo>
                    </a:path>
                  </a:pathLst>
                </a:custGeom>
                <a:solidFill>
                  <a:srgbClr val="ffff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" name=""/>
              <p:cNvSpPr/>
              <p:nvPr/>
            </p:nvSpPr>
            <p:spPr>
              <a:xfrm>
                <a:off x="7024320" y="2161800"/>
                <a:ext cx="887400" cy="421560"/>
              </a:xfrm>
              <a:custGeom>
                <a:avLst/>
                <a:gdLst/>
                <a:ahLst/>
                <a:rect l="l" t="t" r="r" b="b"/>
                <a:pathLst>
                  <a:path w="1520" h="672">
                    <a:moveTo>
                      <a:pt x="0" y="480"/>
                    </a:moveTo>
                    <a:cubicBezTo>
                      <a:pt x="108" y="576"/>
                      <a:pt x="216" y="672"/>
                      <a:pt x="384" y="672"/>
                    </a:cubicBezTo>
                    <a:cubicBezTo>
                      <a:pt x="552" y="672"/>
                      <a:pt x="832" y="568"/>
                      <a:pt x="1008" y="480"/>
                    </a:cubicBezTo>
                    <a:cubicBezTo>
                      <a:pt x="1184" y="392"/>
                      <a:pt x="1360" y="224"/>
                      <a:pt x="1440" y="144"/>
                    </a:cubicBezTo>
                    <a:cubicBezTo>
                      <a:pt x="1520" y="64"/>
                      <a:pt x="1504" y="32"/>
                      <a:pt x="1488" y="0"/>
                    </a:cubicBezTo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7315200" y="26668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20120" y="266688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Rockwell Extra Bold"/>
              </a:rPr>
              <a:t>Choose one of the eight proposals. Do a six hats for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Rockwell Extra Bold"/>
              </a:rPr>
              <a:t>Once you have finished your 6 hats. Create a poster explaining the purpose of 6 hats and a guide to using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d 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 you feel about the sugges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your gut reac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ntuitions do you ha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think too long or too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57200" y="2362320"/>
            <a:ext cx="3936960" cy="3276360"/>
            <a:chOff x="457200" y="2362320"/>
            <a:chExt cx="3936960" cy="3276360"/>
          </a:xfrm>
        </p:grpSpPr>
        <p:grpSp>
          <p:nvGrpSpPr>
            <p:cNvPr id="137" name=""/>
            <p:cNvGrpSpPr/>
            <p:nvPr/>
          </p:nvGrpSpPr>
          <p:grpSpPr>
            <a:xfrm>
              <a:off x="457200" y="2362320"/>
              <a:ext cx="3936960" cy="3276360"/>
              <a:chOff x="457200" y="2362320"/>
              <a:chExt cx="3936960" cy="3276360"/>
            </a:xfrm>
          </p:grpSpPr>
          <p:sp>
            <p:nvSpPr>
              <p:cNvPr id="138" name=""/>
              <p:cNvSpPr/>
              <p:nvPr/>
            </p:nvSpPr>
            <p:spPr>
              <a:xfrm>
                <a:off x="990360" y="2362320"/>
                <a:ext cx="2590920" cy="255276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57200" y="3962520"/>
                <a:ext cx="3936960" cy="16761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523880" y="4572000"/>
                <a:ext cx="1600200" cy="45720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1066680" y="2819520"/>
              <a:ext cx="2438640" cy="850680"/>
            </a:xfrm>
            <a:custGeom>
              <a:avLst/>
              <a:gdLst/>
              <a:ahLst/>
              <a:rect l="l" t="t" r="r" b="b"/>
              <a:pathLst>
                <a:path w="1536" h="536">
                  <a:moveTo>
                    <a:pt x="0" y="432"/>
                  </a:moveTo>
                  <a:cubicBezTo>
                    <a:pt x="84" y="476"/>
                    <a:pt x="168" y="520"/>
                    <a:pt x="288" y="528"/>
                  </a:cubicBezTo>
                  <a:cubicBezTo>
                    <a:pt x="408" y="536"/>
                    <a:pt x="544" y="536"/>
                    <a:pt x="720" y="480"/>
                  </a:cubicBezTo>
                  <a:cubicBezTo>
                    <a:pt x="896" y="424"/>
                    <a:pt x="1208" y="272"/>
                    <a:pt x="1344" y="192"/>
                  </a:cubicBezTo>
                  <a:cubicBezTo>
                    <a:pt x="1480" y="112"/>
                    <a:pt x="1512" y="32"/>
                    <a:pt x="1536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White 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formation seeking h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fac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nformation is available? What  is releva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earing the white hat we are neutral in our thin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57200" y="2362320"/>
            <a:ext cx="3936960" cy="3276360"/>
            <a:chOff x="457200" y="2362320"/>
            <a:chExt cx="3936960" cy="3276360"/>
          </a:xfrm>
        </p:grpSpPr>
        <p:grpSp>
          <p:nvGrpSpPr>
            <p:cNvPr id="145" name=""/>
            <p:cNvGrpSpPr/>
            <p:nvPr/>
          </p:nvGrpSpPr>
          <p:grpSpPr>
            <a:xfrm>
              <a:off x="457200" y="2362320"/>
              <a:ext cx="3936960" cy="3276360"/>
              <a:chOff x="457200" y="2362320"/>
              <a:chExt cx="3936960" cy="3276360"/>
            </a:xfrm>
          </p:grpSpPr>
          <p:sp>
            <p:nvSpPr>
              <p:cNvPr id="146" name=""/>
              <p:cNvSpPr/>
              <p:nvPr/>
            </p:nvSpPr>
            <p:spPr>
              <a:xfrm>
                <a:off x="990360" y="2362320"/>
                <a:ext cx="2590920" cy="255276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57200" y="3962520"/>
                <a:ext cx="3936960" cy="16761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523880" y="4572000"/>
                <a:ext cx="1600200" cy="45720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1143000" y="2971800"/>
              <a:ext cx="2362320" cy="800280"/>
            </a:xfrm>
            <a:custGeom>
              <a:avLst/>
              <a:gdLst/>
              <a:ahLst/>
              <a:rect l="l" t="t" r="r" b="b"/>
              <a:pathLst>
                <a:path w="1488" h="504">
                  <a:moveTo>
                    <a:pt x="0" y="336"/>
                  </a:moveTo>
                  <a:cubicBezTo>
                    <a:pt x="40" y="372"/>
                    <a:pt x="80" y="408"/>
                    <a:pt x="192" y="432"/>
                  </a:cubicBezTo>
                  <a:cubicBezTo>
                    <a:pt x="304" y="456"/>
                    <a:pt x="512" y="504"/>
                    <a:pt x="672" y="480"/>
                  </a:cubicBezTo>
                  <a:cubicBezTo>
                    <a:pt x="832" y="456"/>
                    <a:pt x="1016" y="368"/>
                    <a:pt x="1152" y="288"/>
                  </a:cubicBezTo>
                  <a:cubicBezTo>
                    <a:pt x="1288" y="208"/>
                    <a:pt x="1432" y="48"/>
                    <a:pt x="148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457200" y="2209680"/>
            <a:ext cx="3961800" cy="3276360"/>
            <a:chOff x="457200" y="2209680"/>
            <a:chExt cx="3961800" cy="3276360"/>
          </a:xfrm>
        </p:grpSpPr>
        <p:grpSp>
          <p:nvGrpSpPr>
            <p:cNvPr id="151" name=""/>
            <p:cNvGrpSpPr/>
            <p:nvPr/>
          </p:nvGrpSpPr>
          <p:grpSpPr>
            <a:xfrm>
              <a:off x="457200" y="2209680"/>
              <a:ext cx="3961800" cy="3276360"/>
              <a:chOff x="457200" y="2209680"/>
              <a:chExt cx="3961800" cy="3276360"/>
            </a:xfrm>
          </p:grpSpPr>
          <p:sp>
            <p:nvSpPr>
              <p:cNvPr id="152" name=""/>
              <p:cNvSpPr/>
              <p:nvPr/>
            </p:nvSpPr>
            <p:spPr>
              <a:xfrm>
                <a:off x="993600" y="2209680"/>
                <a:ext cx="2607480" cy="255276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ffff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57200" y="3809880"/>
                <a:ext cx="3961800" cy="16761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ffff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530360" y="4419360"/>
                <a:ext cx="1610280" cy="45720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ffff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1224000" y="2971440"/>
              <a:ext cx="2300760" cy="762120"/>
            </a:xfrm>
            <a:custGeom>
              <a:avLst/>
              <a:gdLst/>
              <a:ahLst/>
              <a:rect l="l" t="t" r="r" b="b"/>
              <a:pathLst>
                <a:path w="1440" h="480">
                  <a:moveTo>
                    <a:pt x="0" y="432"/>
                  </a:moveTo>
                  <a:lnTo>
                    <a:pt x="96" y="480"/>
                  </a:lnTo>
                  <a:lnTo>
                    <a:pt x="288" y="240"/>
                  </a:lnTo>
                  <a:lnTo>
                    <a:pt x="384" y="288"/>
                  </a:lnTo>
                  <a:lnTo>
                    <a:pt x="576" y="96"/>
                  </a:lnTo>
                  <a:lnTo>
                    <a:pt x="816" y="240"/>
                  </a:lnTo>
                  <a:lnTo>
                    <a:pt x="912" y="0"/>
                  </a:lnTo>
                  <a:lnTo>
                    <a:pt x="1248" y="240"/>
                  </a:lnTo>
                  <a:lnTo>
                    <a:pt x="1344" y="0"/>
                  </a:lnTo>
                  <a:lnTo>
                    <a:pt x="1440" y="0"/>
                  </a:lnTo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Yellow 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nshine h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positive and construc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bout effectiveness and getting a job d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benefits, the advanta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905120" y="3657600"/>
            <a:ext cx="990000" cy="228600"/>
            <a:chOff x="1905120" y="3657600"/>
            <a:chExt cx="990000" cy="228600"/>
          </a:xfrm>
        </p:grpSpPr>
        <p:grpSp>
          <p:nvGrpSpPr>
            <p:cNvPr id="159" name=""/>
            <p:cNvGrpSpPr/>
            <p:nvPr/>
          </p:nvGrpSpPr>
          <p:grpSpPr>
            <a:xfrm>
              <a:off x="1905120" y="3657600"/>
              <a:ext cx="990000" cy="228600"/>
              <a:chOff x="1905120" y="3657600"/>
              <a:chExt cx="990000" cy="228600"/>
            </a:xfrm>
          </p:grpSpPr>
          <p:sp>
            <p:nvSpPr>
              <p:cNvPr id="160" name=""/>
              <p:cNvSpPr/>
              <p:nvPr/>
            </p:nvSpPr>
            <p:spPr>
              <a:xfrm>
                <a:off x="1905120" y="3657600"/>
                <a:ext cx="304560" cy="228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590560" y="3657600"/>
                <a:ext cx="304560" cy="228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2057040" y="3733920"/>
              <a:ext cx="759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42840" y="3733920"/>
              <a:ext cx="759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Black 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aution h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black hat the thinker points out errors or pit-fa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risks or dangers involv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s difficulties and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57200" y="2362320"/>
            <a:ext cx="3936960" cy="3276360"/>
            <a:chOff x="457200" y="2362320"/>
            <a:chExt cx="3936960" cy="3276360"/>
          </a:xfrm>
        </p:grpSpPr>
        <p:grpSp>
          <p:nvGrpSpPr>
            <p:cNvPr id="167" name=""/>
            <p:cNvGrpSpPr/>
            <p:nvPr/>
          </p:nvGrpSpPr>
          <p:grpSpPr>
            <a:xfrm>
              <a:off x="457200" y="2362320"/>
              <a:ext cx="3936960" cy="3276360"/>
              <a:chOff x="457200" y="2362320"/>
              <a:chExt cx="3936960" cy="3276360"/>
            </a:xfrm>
          </p:grpSpPr>
          <p:sp>
            <p:nvSpPr>
              <p:cNvPr id="168" name=""/>
              <p:cNvSpPr/>
              <p:nvPr/>
            </p:nvSpPr>
            <p:spPr>
              <a:xfrm>
                <a:off x="990360" y="2362320"/>
                <a:ext cx="2590920" cy="255276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7200" y="3962520"/>
                <a:ext cx="3936960" cy="16761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523880" y="4572000"/>
                <a:ext cx="1600200" cy="45720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1143000" y="2819520"/>
              <a:ext cx="2362320" cy="977760"/>
            </a:xfrm>
            <a:custGeom>
              <a:avLst/>
              <a:gdLst/>
              <a:ahLst/>
              <a:rect l="l" t="t" r="r" b="b"/>
              <a:pathLst>
                <a:path w="1488" h="616">
                  <a:moveTo>
                    <a:pt x="0" y="480"/>
                  </a:moveTo>
                  <a:cubicBezTo>
                    <a:pt x="4" y="520"/>
                    <a:pt x="8" y="560"/>
                    <a:pt x="96" y="576"/>
                  </a:cubicBezTo>
                  <a:cubicBezTo>
                    <a:pt x="184" y="592"/>
                    <a:pt x="336" y="616"/>
                    <a:pt x="528" y="576"/>
                  </a:cubicBezTo>
                  <a:cubicBezTo>
                    <a:pt x="720" y="536"/>
                    <a:pt x="1088" y="432"/>
                    <a:pt x="1248" y="336"/>
                  </a:cubicBezTo>
                  <a:cubicBezTo>
                    <a:pt x="1408" y="240"/>
                    <a:pt x="1448" y="120"/>
                    <a:pt x="1488" y="0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creative mode of thin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en represents growth and mov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reen hat we look to new ideas and solu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al thinking wears a green h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een 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35040" y="2081160"/>
            <a:ext cx="3936960" cy="3481200"/>
            <a:chOff x="635040" y="2081160"/>
            <a:chExt cx="3936960" cy="3481200"/>
          </a:xfrm>
        </p:grpSpPr>
        <p:grpSp>
          <p:nvGrpSpPr>
            <p:cNvPr id="175" name=""/>
            <p:cNvGrpSpPr/>
            <p:nvPr/>
          </p:nvGrpSpPr>
          <p:grpSpPr>
            <a:xfrm>
              <a:off x="635040" y="2286000"/>
              <a:ext cx="3936960" cy="3276360"/>
              <a:chOff x="635040" y="2286000"/>
              <a:chExt cx="3936960" cy="327636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635040" y="2286000"/>
                <a:ext cx="3936960" cy="3276360"/>
                <a:chOff x="635040" y="2286000"/>
                <a:chExt cx="3936960" cy="32763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1168200" y="2286000"/>
                  <a:ext cx="2590920" cy="2552760"/>
                </a:xfrm>
                <a:custGeom>
                  <a:avLst/>
                  <a:gdLst/>
                  <a:ahLst/>
                  <a:rect l="l" t="t" r="r" b="b"/>
                  <a:pathLst>
                    <a:path w="1632" h="1608">
                      <a:moveTo>
                        <a:pt x="344" y="1368"/>
                      </a:moveTo>
                      <a:cubicBezTo>
                        <a:pt x="172" y="1092"/>
                        <a:pt x="0" y="816"/>
                        <a:pt x="104" y="600"/>
                      </a:cubicBezTo>
                      <a:cubicBezTo>
                        <a:pt x="208" y="384"/>
                        <a:pt x="728" y="144"/>
                        <a:pt x="968" y="72"/>
                      </a:cubicBezTo>
                      <a:cubicBezTo>
                        <a:pt x="1208" y="0"/>
                        <a:pt x="1456" y="8"/>
                        <a:pt x="1544" y="168"/>
                      </a:cubicBezTo>
                      <a:cubicBezTo>
                        <a:pt x="1632" y="328"/>
                        <a:pt x="1528" y="792"/>
                        <a:pt x="1496" y="1032"/>
                      </a:cubicBezTo>
                      <a:cubicBezTo>
                        <a:pt x="1464" y="1272"/>
                        <a:pt x="1376" y="1504"/>
                        <a:pt x="1352" y="1608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35040" y="3886200"/>
                  <a:ext cx="3936960" cy="1676160"/>
                </a:xfrm>
                <a:custGeom>
                  <a:avLst/>
                  <a:gdLst/>
                  <a:ahLst/>
                  <a:rect l="l" t="t" r="r" b="b"/>
                  <a:pathLst>
                    <a:path w="2480" h="1056">
                      <a:moveTo>
                        <a:pt x="512" y="88"/>
                      </a:moveTo>
                      <a:cubicBezTo>
                        <a:pt x="492" y="44"/>
                        <a:pt x="472" y="0"/>
                        <a:pt x="416" y="88"/>
                      </a:cubicBezTo>
                      <a:cubicBezTo>
                        <a:pt x="360" y="176"/>
                        <a:pt x="0" y="456"/>
                        <a:pt x="176" y="616"/>
                      </a:cubicBezTo>
                      <a:cubicBezTo>
                        <a:pt x="352" y="776"/>
                        <a:pt x="1112" y="1040"/>
                        <a:pt x="1472" y="1048"/>
                      </a:cubicBezTo>
                      <a:cubicBezTo>
                        <a:pt x="1832" y="1056"/>
                        <a:pt x="2192" y="744"/>
                        <a:pt x="2336" y="664"/>
                      </a:cubicBezTo>
                      <a:cubicBezTo>
                        <a:pt x="2480" y="584"/>
                        <a:pt x="2392" y="648"/>
                        <a:pt x="2336" y="568"/>
                      </a:cubicBezTo>
                      <a:cubicBezTo>
                        <a:pt x="2280" y="488"/>
                        <a:pt x="2096" y="248"/>
                        <a:pt x="2000" y="184"/>
                      </a:cubicBezTo>
                      <a:cubicBezTo>
                        <a:pt x="1904" y="120"/>
                        <a:pt x="1800" y="184"/>
                        <a:pt x="1760" y="184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701720" y="4495680"/>
                  <a:ext cx="1600200" cy="457200"/>
                </a:xfrm>
                <a:custGeom>
                  <a:avLst/>
                  <a:gdLst/>
                  <a:ahLst/>
                  <a:rect l="l" t="t" r="r" b="b"/>
                  <a:pathLst>
                    <a:path w="1008" h="288">
                      <a:moveTo>
                        <a:pt x="0" y="0"/>
                      </a:moveTo>
                      <a:cubicBezTo>
                        <a:pt x="12" y="72"/>
                        <a:pt x="24" y="144"/>
                        <a:pt x="144" y="192"/>
                      </a:cubicBezTo>
                      <a:cubicBezTo>
                        <a:pt x="264" y="240"/>
                        <a:pt x="576" y="288"/>
                        <a:pt x="720" y="288"/>
                      </a:cubicBezTo>
                      <a:cubicBezTo>
                        <a:pt x="864" y="288"/>
                        <a:pt x="936" y="240"/>
                        <a:pt x="1008" y="192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>
                <a:off x="1295280" y="2743200"/>
                <a:ext cx="2413080" cy="1066680"/>
              </a:xfrm>
              <a:custGeom>
                <a:avLst/>
                <a:gdLst/>
                <a:ahLst/>
                <a:rect l="l" t="t" r="r" b="b"/>
                <a:pathLst>
                  <a:path w="1520" h="672">
                    <a:moveTo>
                      <a:pt x="0" y="480"/>
                    </a:moveTo>
                    <a:cubicBezTo>
                      <a:pt x="108" y="576"/>
                      <a:pt x="216" y="672"/>
                      <a:pt x="384" y="672"/>
                    </a:cubicBezTo>
                    <a:cubicBezTo>
                      <a:pt x="552" y="672"/>
                      <a:pt x="832" y="568"/>
                      <a:pt x="1008" y="480"/>
                    </a:cubicBezTo>
                    <a:cubicBezTo>
                      <a:pt x="1184" y="392"/>
                      <a:pt x="1360" y="224"/>
                      <a:pt x="1440" y="144"/>
                    </a:cubicBezTo>
                    <a:cubicBezTo>
                      <a:pt x="1520" y="64"/>
                      <a:pt x="1504" y="32"/>
                      <a:pt x="1488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1817640" y="2081160"/>
              <a:ext cx="281160" cy="1143000"/>
            </a:xfrm>
            <a:custGeom>
              <a:avLst/>
              <a:gdLst/>
              <a:ahLst/>
              <a:rect l="l" t="t" r="r" b="b"/>
              <a:pathLst>
                <a:path w="177" h="720">
                  <a:moveTo>
                    <a:pt x="101" y="720"/>
                  </a:moveTo>
                  <a:cubicBezTo>
                    <a:pt x="95" y="581"/>
                    <a:pt x="130" y="495"/>
                    <a:pt x="0" y="452"/>
                  </a:cubicBezTo>
                  <a:cubicBezTo>
                    <a:pt x="3" y="344"/>
                    <a:pt x="1" y="236"/>
                    <a:pt x="9" y="129"/>
                  </a:cubicBezTo>
                  <a:cubicBezTo>
                    <a:pt x="11" y="103"/>
                    <a:pt x="40" y="95"/>
                    <a:pt x="55" y="83"/>
                  </a:cubicBezTo>
                  <a:cubicBezTo>
                    <a:pt x="92" y="53"/>
                    <a:pt x="110" y="15"/>
                    <a:pt x="157" y="0"/>
                  </a:cubicBezTo>
                  <a:cubicBezTo>
                    <a:pt x="177" y="61"/>
                    <a:pt x="177" y="50"/>
                    <a:pt x="157" y="157"/>
                  </a:cubicBezTo>
                  <a:cubicBezTo>
                    <a:pt x="154" y="174"/>
                    <a:pt x="130" y="179"/>
                    <a:pt x="120" y="194"/>
                  </a:cubicBezTo>
                  <a:cubicBezTo>
                    <a:pt x="103" y="219"/>
                    <a:pt x="101" y="232"/>
                    <a:pt x="92" y="258"/>
                  </a:cubicBezTo>
                  <a:cubicBezTo>
                    <a:pt x="104" y="458"/>
                    <a:pt x="101" y="357"/>
                    <a:pt x="101" y="563"/>
                  </a:cubicBezTo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trol hat, organising thinking its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s the focus, calls for the use of other ha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itors and reflects on the thinking processes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 is for plann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lue 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33520" y="2133720"/>
            <a:ext cx="3936960" cy="3276360"/>
            <a:chOff x="533520" y="2133720"/>
            <a:chExt cx="3936960" cy="3276360"/>
          </a:xfrm>
        </p:grpSpPr>
        <p:grpSp>
          <p:nvGrpSpPr>
            <p:cNvPr id="185" name=""/>
            <p:cNvGrpSpPr/>
            <p:nvPr/>
          </p:nvGrpSpPr>
          <p:grpSpPr>
            <a:xfrm>
              <a:off x="533520" y="2133720"/>
              <a:ext cx="3936960" cy="3276360"/>
              <a:chOff x="533520" y="2133720"/>
              <a:chExt cx="3936960" cy="3276360"/>
            </a:xfrm>
          </p:grpSpPr>
          <p:sp>
            <p:nvSpPr>
              <p:cNvPr id="186" name=""/>
              <p:cNvSpPr/>
              <p:nvPr/>
            </p:nvSpPr>
            <p:spPr>
              <a:xfrm>
                <a:off x="1066680" y="2133720"/>
                <a:ext cx="2590920" cy="255276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33520" y="3733920"/>
                <a:ext cx="3936960" cy="16761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600200" y="4343400"/>
                <a:ext cx="1600200" cy="45720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1193760" y="2590560"/>
              <a:ext cx="2413080" cy="1066320"/>
            </a:xfrm>
            <a:custGeom>
              <a:avLst/>
              <a:gdLst/>
              <a:ahLst/>
              <a:rect l="l" t="t" r="r" b="b"/>
              <a:pathLst>
                <a:path w="1520" h="672">
                  <a:moveTo>
                    <a:pt x="0" y="480"/>
                  </a:moveTo>
                  <a:cubicBezTo>
                    <a:pt x="108" y="576"/>
                    <a:pt x="216" y="672"/>
                    <a:pt x="384" y="672"/>
                  </a:cubicBezTo>
                  <a:cubicBezTo>
                    <a:pt x="552" y="672"/>
                    <a:pt x="832" y="568"/>
                    <a:pt x="1008" y="480"/>
                  </a:cubicBezTo>
                  <a:cubicBezTo>
                    <a:pt x="1184" y="392"/>
                    <a:pt x="1360" y="224"/>
                    <a:pt x="1440" y="144"/>
                  </a:cubicBezTo>
                  <a:cubicBezTo>
                    <a:pt x="1520" y="64"/>
                    <a:pt x="1504" y="32"/>
                    <a:pt x="1488" y="0"/>
                  </a:cubicBezTo>
                </a:path>
              </a:pathLst>
            </a:custGeom>
            <a:solidFill>
              <a:srgbClr val="3333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9T11:39:02Z</dcterms:created>
  <dc:creator>LEEDS CITY COUNCIL LEEDS CITY</dc:creator>
  <dc:description/>
  <dc:language>en-US</dc:language>
  <cp:lastModifiedBy>Robert</cp:lastModifiedBy>
  <dcterms:modified xsi:type="dcterms:W3CDTF">2008-11-13T10:45:42Z</dcterms:modified>
  <cp:revision>8</cp:revision>
  <dc:subject/>
  <dc:title>Six Thinking Hats</dc:title>
</cp:coreProperties>
</file>